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741-2370-47DD-8E74-26BD72B5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8F4-61ED-4BD1-BC03-7EE14968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DDC-BD5D-474B-98BF-D21144F1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506-E0AE-4FD2-9D66-52F8B07B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9480-E179-402E-A18E-1C63CD0E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38B7-9769-44C8-B9B5-EC6BFAC5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79F2-1652-4B6B-9731-5A23BA2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2AB9-2753-411C-B777-BF259C68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02EF-BCCA-496D-9D78-B03D9D6F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D00B-9CCF-4AB1-B93C-522A26A2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AFD-DC28-4AD1-AE71-E410B1F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1C9-A7E6-4001-B033-0EC8FBA1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F6C3-EAD0-4E79-9937-0B9A643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3C0A-8E77-485F-B02C-1689B76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35D1-EFF2-432F-957F-97A6E987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96BD-067C-467E-8EC9-F0907459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1825-CE32-4BBB-8263-45DBCECE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E53-C749-4465-9BCE-26D9C7AC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44B-81F1-4EF1-ADE0-434D8321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6CB-D27E-4391-83A0-48E556E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402-B029-42F9-B524-3FBBCFE0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20E-A1BC-4AE3-9B37-8194BEA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2C8A-DC4D-4EE0-8019-1FF7FE6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67F-1EA5-4C4E-BF0C-A2655F49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48DD-ECB3-40F1-9E0E-71E7C28650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63D7-35B6-4841-A6CA-E70523A7A0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тестирующих программ в среде программирова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phi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макова Вероника Викентьевна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а Белово Кемер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rocedure TForm1.Button2Click(Sender: TObject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f:=a+b+c+d+q+w+r+t+y+u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if f=10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Label1.Caption:=IntToStr(f)+' правильных ответов из 10 вопросов. '+‘ Отлично!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lse if f&gt;=8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Label1.Caption:=IntToStr(f)+' правильных ответов из 10 вопросов. '+‘ Хорошо!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lse if f&gt;=6 t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Label1.Caption:=IntToStr(f)+' правильных ответов из 10 вопросов. '+‘  Плохо! Учите!'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rocedure TForm1.N2Click(Sender: TObject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rocedure TForm1.N5Click(Sender: TObject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AboutBox.show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rocedure TForm1.N4Click(Sender: TObject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essageDlgPos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дьте внимательны при выборе варианта ответа!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торный выбор ответа на вопрос недоступен!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tInformation,[mbOK],0,300,200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ная реализация компьютера. Файловая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 и алгорит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виатура. Клавиши назна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ект 3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Безымянный2"/>
          <p:cNvPicPr/>
          <p:nvPr/>
        </p:nvPicPr>
        <p:blipFill>
          <a:blip r:embed="rId1"/>
          <a:stretch/>
        </p:blipFill>
        <p:spPr>
          <a:xfrm>
            <a:off x="2519280" y="1600200"/>
            <a:ext cx="6238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ses Unit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{$R *.dfm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RadioGroup1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:=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RadioGroup1.ItemIndex=1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 q:=q+1;Panel1.Visible:=False;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lse q:=q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adioGroup1.Visible: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RadioGroup10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:=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RadioGroup10.ItemIndex=1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 a:=a+1;Panel10.Visible:=False;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lse a:=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adioGroup10.Visible: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2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u:=q+w+e+r+t+y+i+o+p+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Label1.Caption:=IntToStr(u)+' правильных ответов из 10 вопросов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3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5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MessageDlgPos('Будьте внимательны при выборе варианта ответа!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вторный выбор ответа на вопрос недоступен!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mtInformation,[mbOK],0,300,20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6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AboutBox.Show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Button1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онная система и файловая струк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ый процессор Microsof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TLabel, TButton, TRadio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TLabel,TButton,TRadioGroup,TMain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TLabel,</a:t>
            </a: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2000" spc="-1" strike="noStrike" u="sng">
                <a:solidFill>
                  <a:srgbClr val="e4005c"/>
                </a:solidFill>
                <a:uFillTx/>
                <a:latin typeface="Arial"/>
                <a:hlinkClick r:id="rId8" action="ppaction://hlinksldjump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, TMain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11280" y="1155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 TButton, TRadioGrou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ект 1)</a:t>
            </a:r>
            <a:br>
              <a:rPr sz="32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1" name="Picture 6" descr="Безымянный"/>
          <p:cNvPicPr/>
          <p:nvPr/>
        </p:nvPicPr>
        <p:blipFill>
          <a:blip r:embed="rId1"/>
          <a:stretch/>
        </p:blipFill>
        <p:spPr>
          <a:xfrm>
            <a:off x="2846520" y="1600200"/>
            <a:ext cx="55832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 TButton, TRadioGroup</a:t>
            </a:r>
            <a:br>
              <a:rPr sz="32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orm1: TForm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,w,e,r,t,y,u,i,o,p,l:integ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{$R *.dfm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RadioGroup1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:=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RadioGroup1.ItemIndex=0 then q:=q+1 else q:=q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adioGroup1.Visible: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RadioGroup10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:=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RadioGroup10.ItemIndex=2 then p:=p+1 else p:=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adioGroup10.Visible: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 TButton, TRadioGroup</a:t>
            </a:r>
            <a:br>
              <a:rPr sz="32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Button1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:=q+w+e+r+t+y+u+i+o+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l=10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abel11.Caption:=IntToStr(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abel12.Caption:=' Отлично!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l&lt;6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11.Caption:=IntToStr(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12.Caption:='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ох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TForm1.Button2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 TButton, TRadioGroup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и информационные процессы. Основы вычислительной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техники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. Виды работы с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чный процессор Microsoft Ex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ект 2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Picture 5" descr="Безымянный1"/>
          <p:cNvPicPr/>
          <p:nvPr/>
        </p:nvPicPr>
        <p:blipFill>
          <a:blip r:embed="rId1"/>
          <a:stretch/>
        </p:blipFill>
        <p:spPr>
          <a:xfrm>
            <a:off x="2484360" y="2133720"/>
            <a:ext cx="6408720" cy="3411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TForm1.RadioGroup1Click(Sender: TObjec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adioGroup1.ItemIndex=1 then a:=a+1 else a:=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Group1.Visible:=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rocedure TForm1.RadioGroup10Click(Sender: TObjec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u: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f RadioGroup10.ItemIndex=1 then u:=u+1 else u:=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adioGroup10.Visible:=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procedure TForm1.Label2Click(Sender: TObjec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:=e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ase 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:begin Label1.Caption:=‘2 вопрос. Носителями внешней (долговременной) памяти ПК являются: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adioGroup9.Visible:=True;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:begin Label1.Caption:='10 вопрос. Укажите путь к файлу chess.exe: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adioGroup1.Visible:=True;Button2.Visible:=True;Label2.Visible:=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dure TForm1.Button1Click(Sender: TObjec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8:01:01Z</dcterms:created>
  <dc:creator>Ps1Xball</dc:creator>
  <dc:description/>
  <dc:language>en-US</dc:language>
  <cp:lastModifiedBy>Дмитрий</cp:lastModifiedBy>
  <dcterms:modified xsi:type="dcterms:W3CDTF">2009-10-19T11:57:23Z</dcterms:modified>
  <cp:revision>48</cp:revision>
  <dc:subject/>
  <dc:title>Электронный сборник тестирующих программ по информатике</dc:title>
</cp:coreProperties>
</file>