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606-3B68-42E8-AEF7-3125066F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BDC-2200-4577-9FD7-5EFAB82D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30E-2E14-493A-8F99-3FB9DB17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15C-4313-4D05-9A46-25F87C96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B954-2CF2-43A8-A7D3-FBA496BB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285B-B5D9-4C1B-9133-2ABF788E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6B86-C79E-4962-AA45-98CA7F49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A79C-D183-4924-BEE8-942B3ABF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7455-21AA-4AAA-AA9E-3AE69303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1EF8-8FC7-4E5E-8163-192CF9CE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32D2-537C-487B-9276-4E411405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17F-6913-4FD0-AEC8-09B0DF26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5B0A-53C3-46D5-B822-AFE82F3D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276B-71E9-4616-8ABD-2C52B566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DCFC-2C7C-416D-8E30-80579FF0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768C-F44B-4DAF-9A0A-BAEF1A90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67C9-5199-4E91-A52A-CE4D850F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C53-7EA1-4057-B710-AE35ED8B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637-7C67-4F19-84FB-26E964DD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3AD-2656-478B-B722-F46FC5A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C17-78C9-406B-B371-F3047325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D1B-B6EB-479D-A881-D532BB63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B32-ED44-4A61-A452-3A4FDB8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E53-A286-4ED6-A643-25346EBA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F3BE-E82F-43F1-8CA1-3F04F2BEA6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5112-C4B1-4001-9DDA-A642C9D8D4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3/&#1048;&#1085;&#1090;&#1077;&#1088;&#1085;&#1077;&#1090;.exe" TargetMode="External"/><Relationship Id="rId2" Type="http://schemas.openxmlformats.org/officeDocument/2006/relationships/hyperlink" Target="file:///3/&#1054;&#1087;&#1077;&#1088;&#1072;&#1094;&#1080;&#1086;&#1085;&#1085;&#1072;&#1103;%20&#1089;&#1080;&#1089;&#1090;&#1077;&#1084;&#1072;%20&#1080;%20&#1092;&#1072;&#1081;&#1083;&#1086;&#1074;&#1072;&#1103;%20&#1089;&#1090;&#1088;&#1091;&#1082;&#1090;&#1091;&#1088;&#1072;.exe" TargetMode="External"/><Relationship Id="rId3" Type="http://schemas.openxmlformats.org/officeDocument/2006/relationships/hyperlink" Target="file:///3/&#1058;&#1077;&#1082;&#1089;&#1090;&#1086;&#1074;&#1099;&#1081;%20&#1087;&#1088;&#1086;&#1094;&#1077;&#1089;&#1089;&#1086;&#1088;%20Microsoft%20Word.exe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8429400" cy="38577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компонент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oButton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PageControl, TImage, Tpane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geControl, TImage, TPa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оект 3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8" name="Picture 5" descr="Безымянный2"/>
          <p:cNvPicPr/>
          <p:nvPr/>
        </p:nvPicPr>
        <p:blipFill>
          <a:blip r:embed="rId1"/>
          <a:stretch/>
        </p:blipFill>
        <p:spPr>
          <a:xfrm>
            <a:off x="2519280" y="1600200"/>
            <a:ext cx="62388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geControl, TImage, TPa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ses Unit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{$R *.dfm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rocedure TForm1.RadioGroup1Click(Sender: TObjec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:=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f RadioGroup1.ItemIndex=1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 q:=q+1;Panel1.Visible:=False;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lse q:=q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adioGroup1.Visible: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rocedure TForm1.RadioGroup10Click(Sender: TObjec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:=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f RadioGroup10.ItemIndex=1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egin a:=a+1;Panel10.Visible:=False;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lse a:=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adioGroup10.Visible: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geControl, TImage, TPa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procedure TForm1.N2Click(Sender: T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u:=q+w+e+r+t+y+i+o+p+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Label1.Caption:=IntToStr(u)+' правильных ответов из 10 вопросов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procedure TForm1.N3Click(Sender: T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clos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procedure TForm1.N5Click(Sender: T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MessageDlgPos('Будьте внимательны при выборе варианта ответа!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вторный выбор ответа на вопрос недоступен!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mtInformation,[mbOK],0,300,20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procedure TForm1.N6Click(Sender: T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AboutBox.Show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procedure TForm1.Button1Click(Sender: TObjec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clos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естирующей программы с использованием компонен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abel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utto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oGroup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ageControl, TImage, TPan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ainMenu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Операционная система и файловая струк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005c"/>
                </a:solidFill>
                <a:uFillTx/>
                <a:latin typeface="Arial"/>
                <a:hlinkClick r:id="rId3"/>
              </a:rPr>
              <a:t>Текстовый процессор Microsoft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8:01:01Z</dcterms:created>
  <dc:creator>Ps1Xball</dc:creator>
  <dc:description/>
  <dc:language>en-US</dc:language>
  <cp:lastModifiedBy>Admin</cp:lastModifiedBy>
  <dcterms:modified xsi:type="dcterms:W3CDTF">2012-03-19T07:26:55Z</dcterms:modified>
  <cp:revision>50</cp:revision>
  <dc:subject/>
  <dc:title>Электронный сборник тестирующих программ по информатике</dc:title>
</cp:coreProperties>
</file>