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9FB-673B-4240-BBD7-2769A775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096-79B3-4DE3-BB29-02C8560F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3DF-326D-4D57-B09A-E7C79632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FD7-A82D-4944-B541-9AE5287C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130-509A-4C14-8378-AB06C85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A2B-9790-4463-890B-CEDD770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C97-D4AE-4CF7-94D5-9BF4FD84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152-2BD5-408E-8C2E-BF512DA2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2CE-902A-460A-9C11-92D458C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FD1-F399-4A96-AD4A-C462ECF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9DB-5BA1-4FAF-B103-92084BC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110-BD64-4297-9B0B-0387A3C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A4C1-7037-462A-95AC-ED380D8FF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Создание диалоговых о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труктурированные типы данных. Структурированные операторы.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 := MessageDlg('Уважаемый ' + A + ', Вы готовы к проверке знаний?', MtConfirmation, [mbYes,mbNo],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 = idNo Then Exi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6" descr="http://festival.1september.ru/articles/528290/img6.gif"/>
          <p:cNvPicPr/>
          <p:nvPr/>
        </p:nvPicPr>
        <p:blipFill>
          <a:blip r:embed="rId1"/>
          <a:stretch/>
        </p:blipFill>
        <p:spPr>
          <a:xfrm>
            <a:off x="611280" y="3429000"/>
            <a:ext cx="7875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Процедур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ую процедуру обычно используют для вывода на экран необходимой информации. Синтаксис процедуры следующ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Messa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информационный тек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)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Messa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информационный тек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переменна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нкция InputBox(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8572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нкция InputBox(). Функция InputBox() позволяет вводить данные с помощью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алоговой панели вво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Аргументами этой функции являются три строки, а значением функции является строка по умолчанию или строка, введенная пользователем. Синтаксис функции следующ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менная := InputBox('Заголовок', 'Подсказка', 'ЗначениеПоУмолчанию'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http://festival.1september.ru/articles/528290/img1.gif"/>
          <p:cNvPicPr/>
          <p:nvPr/>
        </p:nvPicPr>
        <p:blipFill>
          <a:blip r:embed="rId1"/>
          <a:stretch/>
        </p:blipFill>
        <p:spPr>
          <a:xfrm>
            <a:off x="2071800" y="3786120"/>
            <a:ext cx="56829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ункция MessageDlg()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 MessageDlg() позволяет выводить сообщения на специальной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анели сообщ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й можно разместить определенный набор кнопок и информационный значок о типе сообщения. Кроме того, функция MsgBox() получает определенное значение, которое может быть присвоено целочисленной перемен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таксис функции следующ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менная :=MessageDlg('Сообщение',Тип,[Кнопки],Справк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гумент 'Сообщение' выводится на окно сооб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http://festival.1september.ru/articles/528290/img3.gif"/>
          <p:cNvPicPr/>
          <p:nvPr/>
        </p:nvPicPr>
        <p:blipFill>
          <a:blip r:embed="rId1"/>
          <a:stretch/>
        </p:blipFill>
        <p:spPr>
          <a:xfrm>
            <a:off x="2050920" y="2205000"/>
            <a:ext cx="606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гумент Тип задается именованной константой и определяет вид информационного значка, который помещается на окно сообщ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анты, задающие тип панели сообщ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http://festival.1september.ru/articles/528290/img2.gif"/>
          <p:cNvPicPr/>
          <p:nvPr/>
        </p:nvPicPr>
        <p:blipFill>
          <a:blip r:embed="rId1"/>
          <a:stretch/>
        </p:blipFill>
        <p:spPr>
          <a:xfrm>
            <a:off x="250920" y="2205000"/>
            <a:ext cx="8742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гумент Кнопки задается набором именованных констант, разделенных запятыми и заключенными в квадратные кнопки, и определяет набор кнопок, размещаемых на пане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танты, определяющие набор кнопок на панели сообщен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916280"/>
          <a:ext cx="8218440" cy="4684680"/>
        </p:xfrm>
        <a:graphic>
          <a:graphicData uri="http://schemas.openxmlformats.org/drawingml/2006/table">
            <a:tbl>
              <a:tblPr/>
              <a:tblGrid>
                <a:gridCol w="3610080"/>
                <a:gridCol w="61920"/>
                <a:gridCol w="4546440"/>
              </a:tblGrid>
              <a:tr h="583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а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ор кноп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k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, От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AbortRetryIgn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п, Повтор, Пропуст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YesNo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Нет, От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гумент Справка - параметр, определяющий раздел справочной системы, который вызывается нажатием клавиши {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F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}. Если вывод справки не предусмотрен, то значение аргумента Справка должно быть равно 0. Например, если функции задать аргументы MessageDlg('Сообщение',MtWarning,mbYesNoCancel,0), то будет выведена следующая окно сообщ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http://festival.1september.ru/articles/528290/img3.gif"/>
          <p:cNvPicPr/>
          <p:nvPr/>
        </p:nvPicPr>
        <p:blipFill>
          <a:blip r:embed="rId1"/>
          <a:stretch/>
        </p:blipFill>
        <p:spPr>
          <a:xfrm>
            <a:off x="1908000" y="3789360"/>
            <a:ext cx="5077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. Значения функции MessageDlg(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628640"/>
          <a:ext cx="8229600" cy="4896000"/>
        </p:xfrm>
        <a:graphic>
          <a:graphicData uri="http://schemas.openxmlformats.org/drawingml/2006/table">
            <a:tbl>
              <a:tblPr/>
              <a:tblGrid>
                <a:gridCol w="3646440"/>
                <a:gridCol w="468360"/>
                <a:gridCol w="4114800"/>
              </a:tblGrid>
              <a:tr h="613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жатая кноп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я 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Can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Ab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R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уст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Ign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4:04:41Z</dcterms:created>
  <dc:creator>Admin</dc:creator>
  <dc:description/>
  <dc:language>en-US</dc:language>
  <cp:lastModifiedBy>user</cp:lastModifiedBy>
  <dcterms:modified xsi:type="dcterms:W3CDTF">2012-02-28T07:39:21Z</dcterms:modified>
  <cp:revision>7</cp:revision>
  <dc:subject/>
  <dc:title>Структурированные типы данных. Структурированные операторы.  </dc:title>
</cp:coreProperties>
</file>