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95A-A6C0-41B7-BF35-4FC082976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157F-7A2D-4309-B357-79E833C97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2367-1AB7-4AB9-B847-7BDBC9769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C6B-79F6-4355-A58D-CC59F4287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9FFF-CA73-4E67-8772-C352FCF8D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59D-3FEE-4EA6-A3C9-6B6FF2D49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2D9-F7B8-4087-94DF-A4C497CE9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FCF-5950-40E7-8065-B152CAB47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7D9-CB05-4D35-903D-54F46F19C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44D-9545-41D0-9E7A-6A1532FE5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9582-BA67-4493-838C-58C6EC998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5C02-12F2-4C49-AF2F-ED8E898E9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9C64-3CCB-45EB-8DE9-EEB32522F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71B-0F11-45D2-81A9-0EE544959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D5B3-87CA-4620-87FB-8A467642F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11C-E584-4E13-8B0A-415CC2EC4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9E2B-40D1-4589-B98E-F913C6821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CB71-29B7-4330-8C42-6D79C5B18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C56-F052-4819-BC21-0D857B740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7EF-BF2B-498A-BBFC-CA72B214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464-FD83-42F7-9EAA-2FC29A3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1BC-6810-4650-84A2-5340BF1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9DE-8C7A-4493-B93A-BADB4CDC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A03-3519-4BC2-8E3D-07532A6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B7F-E08A-4375-AC8C-B32B176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DCD-8A43-469C-BA17-2637171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29D-C44A-4EE7-8EC0-A88FA86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680-6CA5-4B92-A0E3-5AAAD2C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DBF-7B6E-4C01-B87C-32E7BF8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827-8183-4C3B-A189-D2DA31F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770-5CDC-49AA-93E9-BA6FBB8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BAD-2D4B-4AF0-A507-976E0DDB1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omp-science.hut.ru/Progr/Syst_Sch.html" TargetMode="External"/><Relationship Id="rId2" Type="http://schemas.openxmlformats.org/officeDocument/2006/relationships/hyperlink" Target="http://ru.wikipedia.org/wiki/&#1057;&#1080;&#1089;&#1090;&#1077;&#1084;&#1072;_&#1089;&#1095;&#1080;&#1089;&#1083;&#1077;&#1085;&#1080;&#1103;" TargetMode="External"/><Relationship Id="rId3" Type="http://schemas.openxmlformats.org/officeDocument/2006/relationships/hyperlink" Target="http://ru.wikipedia.org/wiki/&#1057;&#1080;&#1089;&#1090;&#1077;&#1084;&#1072;_&#1089;&#1095;&#1080;&#1089;&#1083;&#1077;&#1085;&#1080;&#1103;" TargetMode="External"/><Relationship Id="rId4" Type="http://schemas.openxmlformats.org/officeDocument/2006/relationships/hyperlink" Target="http://homepages.atnet.ru/volo/glav12.htm" TargetMode="External"/><Relationship Id="rId5" Type="http://schemas.openxmlformats.org/officeDocument/2006/relationships/hyperlink" Target="http://matsievsky.newmail.ru/sys-schi/sys-schi.htm" TargetMode="External"/><Relationship Id="rId6" Type="http://schemas.openxmlformats.org/officeDocument/2006/relationships/hyperlink" Target="http://www.krugosvet.ru/enc/nauka_i_tehnika/matematika/TSIFRI_I_SISTEMI_SCHISLENIYA.html" TargetMode="External"/><Relationship Id="rId7" Type="http://schemas.openxmlformats.org/officeDocument/2006/relationships/hyperlink" Target="http://www.rusedu.info/" TargetMode="External"/><Relationship Id="rId8" Type="http://schemas.openxmlformats.org/officeDocument/2006/relationships/hyperlink" Target="http://www.lubovinkin.narod.ru/" TargetMode="External"/><Relationship Id="rId9" Type="http://schemas.openxmlformats.org/officeDocument/2006/relationships/hyperlink" Target="http://www.anastasi-shherbakova.narod.ru/" TargetMode="External"/><Relationship Id="rId10" Type="http://schemas.openxmlformats.org/officeDocument/2006/relationships/hyperlink" Target="http://www.64zs.com/" TargetMode="External"/><Relationship Id="rId11" Type="http://schemas.openxmlformats.org/officeDocument/2006/relationships/hyperlink" Target="http://www.uchmarket.ru/" TargetMode="External"/><Relationship Id="rId12" Type="http://schemas.openxmlformats.org/officeDocument/2006/relationships/hyperlink" Target="http://www.milogiya2008.ru/mayakalendar1.htm" TargetMode="External"/><Relationship Id="rId13" Type="http://schemas.openxmlformats.org/officeDocument/2006/relationships/hyperlink" Target="http://www.arbinada.com/pmk/node/169/function.session-start" TargetMode="External"/><Relationship Id="rId14" Type="http://schemas.openxmlformats.org/officeDocument/2006/relationships/hyperlink" Target="http://stakan7.narod.ru/i.html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Системы счисления (СС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9040" y="5357880"/>
            <a:ext cx="5076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 есть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0" y="10000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8248680" y="4676760"/>
            <a:ext cx="895320" cy="218124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736B-2F8D-440B-8AE5-E550EB604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3"/>
          <p:cNvGrpSpPr/>
          <p:nvPr/>
        </p:nvGrpSpPr>
        <p:grpSpPr>
          <a:xfrm>
            <a:off x="2124000" y="4797000"/>
            <a:ext cx="1008000" cy="936720"/>
            <a:chOff x="2124000" y="4797000"/>
            <a:chExt cx="1008000" cy="936720"/>
          </a:xfrm>
        </p:grpSpPr>
        <p:sp>
          <p:nvSpPr>
            <p:cNvPr id="104" name="Oval 20"/>
            <p:cNvSpPr/>
            <p:nvPr/>
          </p:nvSpPr>
          <p:spPr>
            <a:xfrm>
              <a:off x="2124000" y="5157720"/>
              <a:ext cx="1008000" cy="576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2"/>
            <p:cNvSpPr/>
            <p:nvPr/>
          </p:nvSpPr>
          <p:spPr>
            <a:xfrm flipV="1">
              <a:off x="2628720" y="479700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мская система 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907920"/>
            <a:ext cx="864072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младшая цифра стоит перед старшей, притом только одна, то она вычитается из су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107720" y="440064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9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1186920" y="591336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M M C C C L X X X I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2169360" y="5181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3340080" y="4760640"/>
            <a:ext cx="1008000" cy="936720"/>
            <a:chOff x="3340080" y="4760640"/>
            <a:chExt cx="1008000" cy="936720"/>
          </a:xfrm>
        </p:grpSpPr>
        <p:sp>
          <p:nvSpPr>
            <p:cNvPr id="113" name="Oval 26"/>
            <p:cNvSpPr/>
            <p:nvPr/>
          </p:nvSpPr>
          <p:spPr>
            <a:xfrm>
              <a:off x="3340080" y="5121360"/>
              <a:ext cx="1008000" cy="576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7"/>
            <p:cNvSpPr/>
            <p:nvPr/>
          </p:nvSpPr>
          <p:spPr>
            <a:xfrm flipV="1">
              <a:off x="384480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4"/>
          <p:cNvSpPr/>
          <p:nvPr/>
        </p:nvSpPr>
        <p:spPr>
          <a:xfrm>
            <a:off x="3424320" y="5192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4589640" y="4760640"/>
            <a:ext cx="846000" cy="936720"/>
            <a:chOff x="4589640" y="4760640"/>
            <a:chExt cx="846000" cy="936720"/>
          </a:xfrm>
        </p:grpSpPr>
        <p:sp>
          <p:nvSpPr>
            <p:cNvPr id="117" name="Oval 29"/>
            <p:cNvSpPr/>
            <p:nvPr/>
          </p:nvSpPr>
          <p:spPr>
            <a:xfrm>
              <a:off x="4589640" y="5121360"/>
              <a:ext cx="846000" cy="576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 flipV="1">
              <a:off x="501300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31"/>
          <p:cNvSpPr/>
          <p:nvPr/>
        </p:nvSpPr>
        <p:spPr>
          <a:xfrm>
            <a:off x="4607280" y="51926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2"/>
          <p:cNvGrpSpPr/>
          <p:nvPr/>
        </p:nvGrpSpPr>
        <p:grpSpPr>
          <a:xfrm>
            <a:off x="5637240" y="4760640"/>
            <a:ext cx="1008000" cy="936720"/>
            <a:chOff x="5637240" y="4760640"/>
            <a:chExt cx="1008000" cy="936720"/>
          </a:xfrm>
        </p:grpSpPr>
        <p:sp>
          <p:nvSpPr>
            <p:cNvPr id="121" name="Oval 33"/>
            <p:cNvSpPr/>
            <p:nvPr/>
          </p:nvSpPr>
          <p:spPr>
            <a:xfrm>
              <a:off x="5637240" y="5121360"/>
              <a:ext cx="1008000" cy="576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 flipV="1">
              <a:off x="614196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35"/>
          <p:cNvSpPr/>
          <p:nvPr/>
        </p:nvSpPr>
        <p:spPr>
          <a:xfrm>
            <a:off x="5906880" y="51926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774520" y="314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565800" y="3141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429440" y="31417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294880" y="3141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941800" y="31417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661440" y="3141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7165440" y="31417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7742880" y="31417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9C75-8D5B-4FD5-9809-E35887B4D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7640" y="714240"/>
            <a:ext cx="872316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86080" y="3428640"/>
            <a:ext cx="6051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ози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C7C8-2A3B-45A9-9672-1AAEDF53C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C:\Documents and Settings\рабочая\Рабочий стол\открытый урок\открытый урок\JT.1985-01.img02.gif"/>
          <p:cNvPicPr/>
          <p:nvPr/>
        </p:nvPicPr>
        <p:blipFill>
          <a:blip r:embed="rId1"/>
          <a:stretch/>
        </p:blipFill>
        <p:spPr>
          <a:xfrm>
            <a:off x="0" y="1521000"/>
            <a:ext cx="3219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4000" y="836640"/>
            <a:ext cx="68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Двадцатеричная система счисления индейцев Май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DDA8-0187-4B07-915C-DA58AB21A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рабочая\Мои документы\Мои рисунки\Безымянный.bmp"/>
          <p:cNvPicPr/>
          <p:nvPr/>
        </p:nvPicPr>
        <p:blipFill>
          <a:blip r:embed="rId1"/>
          <a:stretch/>
        </p:blipFill>
        <p:spPr>
          <a:xfrm>
            <a:off x="642960" y="1428840"/>
            <a:ext cx="3500280" cy="250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рабочая\Мои документы\Мои рисунки\11.bmp"/>
          <p:cNvPicPr/>
          <p:nvPr/>
        </p:nvPicPr>
        <p:blipFill>
          <a:blip r:embed="rId2"/>
          <a:stretch/>
        </p:blipFill>
        <p:spPr>
          <a:xfrm>
            <a:off x="5214960" y="1500120"/>
            <a:ext cx="2643120" cy="4416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рабочая\Мои документы\Мои рисунки\22.bmp"/>
          <p:cNvPicPr/>
          <p:nvPr/>
        </p:nvPicPr>
        <p:blipFill>
          <a:blip r:embed="rId3"/>
          <a:stretch/>
        </p:blipFill>
        <p:spPr>
          <a:xfrm>
            <a:off x="1500120" y="4000680"/>
            <a:ext cx="25243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836640"/>
            <a:ext cx="842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22920" y="22050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6  5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835280" y="227664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000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  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475200" y="400356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2 7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5280" y="285264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3     2      1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4072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V="1">
            <a:off x="539640" y="2636640"/>
            <a:ext cx="144720" cy="215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 flipV="1">
            <a:off x="971640" y="2636640"/>
            <a:ext cx="0" cy="215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5"/>
          <p:cNvSpPr/>
          <p:nvPr/>
        </p:nvSpPr>
        <p:spPr>
          <a:xfrm flipH="1" flipV="1">
            <a:off x="1260000" y="2636640"/>
            <a:ext cx="142920" cy="215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6"/>
          <p:cNvSpPr/>
          <p:nvPr/>
        </p:nvSpPr>
        <p:spPr>
          <a:xfrm flipH="1" flipV="1">
            <a:off x="1547640" y="2636640"/>
            <a:ext cx="144720" cy="215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 flipH="1">
            <a:off x="468000" y="2637000"/>
            <a:ext cx="11509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A62E-69E1-49DB-BAB8-33D18E6DB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395280" y="18900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оич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197800" y="119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9"/>
          <p:cNvGrpSpPr/>
          <p:nvPr/>
        </p:nvGrpSpPr>
        <p:grpSpPr>
          <a:xfrm>
            <a:off x="2197800" y="1197000"/>
            <a:ext cx="1292760" cy="1178280"/>
            <a:chOff x="2197800" y="1197000"/>
            <a:chExt cx="1292760" cy="1178280"/>
          </a:xfrm>
        </p:grpSpPr>
        <p:grpSp>
          <p:nvGrpSpPr>
            <p:cNvPr id="163" name="Group 15"/>
            <p:cNvGrpSpPr/>
            <p:nvPr/>
          </p:nvGrpSpPr>
          <p:grpSpPr>
            <a:xfrm>
              <a:off x="2770200" y="1197000"/>
              <a:ext cx="720360" cy="792000"/>
              <a:chOff x="2770200" y="1197000"/>
              <a:chExt cx="720360" cy="792000"/>
            </a:xfrm>
          </p:grpSpPr>
          <p:grpSp>
            <p:nvGrpSpPr>
              <p:cNvPr id="164" name="Group 13"/>
              <p:cNvGrpSpPr/>
              <p:nvPr/>
            </p:nvGrpSpPr>
            <p:grpSpPr>
              <a:xfrm>
                <a:off x="2770200" y="1268280"/>
                <a:ext cx="720360" cy="720720"/>
                <a:chOff x="2770200" y="1268280"/>
                <a:chExt cx="720360" cy="720720"/>
              </a:xfrm>
            </p:grpSpPr>
            <p:sp>
              <p:nvSpPr>
                <p:cNvPr id="165" name="Line 10"/>
                <p:cNvSpPr/>
                <p:nvPr/>
              </p:nvSpPr>
              <p:spPr>
                <a:xfrm>
                  <a:off x="2770200" y="126828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11"/>
                <p:cNvSpPr/>
                <p:nvPr/>
              </p:nvSpPr>
              <p:spPr>
                <a:xfrm>
                  <a:off x="2770200" y="162864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12"/>
              <p:cNvSpPr/>
              <p:nvPr/>
            </p:nvSpPr>
            <p:spPr>
              <a:xfrm>
                <a:off x="2844720" y="119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4"/>
            <p:cNvSpPr/>
            <p:nvPr/>
          </p:nvSpPr>
          <p:spPr>
            <a:xfrm>
              <a:off x="2845080" y="162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2197800" y="1484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2266920" y="191592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8"/>
            <p:cNvSpPr/>
            <p:nvPr/>
          </p:nvSpPr>
          <p:spPr>
            <a:xfrm>
              <a:off x="2338200" y="1987560"/>
              <a:ext cx="277560" cy="387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2771640" y="1628640"/>
            <a:ext cx="1293480" cy="1178280"/>
            <a:chOff x="2771640" y="1628640"/>
            <a:chExt cx="1293480" cy="1178280"/>
          </a:xfrm>
        </p:grpSpPr>
        <p:grpSp>
          <p:nvGrpSpPr>
            <p:cNvPr id="173" name="Group 21"/>
            <p:cNvGrpSpPr/>
            <p:nvPr/>
          </p:nvGrpSpPr>
          <p:grpSpPr>
            <a:xfrm>
              <a:off x="3344760" y="1628640"/>
              <a:ext cx="720360" cy="792000"/>
              <a:chOff x="3344760" y="1628640"/>
              <a:chExt cx="720360" cy="792000"/>
            </a:xfrm>
          </p:grpSpPr>
          <p:grpSp>
            <p:nvGrpSpPr>
              <p:cNvPr id="174" name="Group 22"/>
              <p:cNvGrpSpPr/>
              <p:nvPr/>
            </p:nvGrpSpPr>
            <p:grpSpPr>
              <a:xfrm>
                <a:off x="3344760" y="1699920"/>
                <a:ext cx="720360" cy="720720"/>
                <a:chOff x="3344760" y="1699920"/>
                <a:chExt cx="720360" cy="720720"/>
              </a:xfrm>
            </p:grpSpPr>
            <p:sp>
              <p:nvSpPr>
                <p:cNvPr id="175" name="Line 23"/>
                <p:cNvSpPr/>
                <p:nvPr/>
              </p:nvSpPr>
              <p:spPr>
                <a:xfrm>
                  <a:off x="3344760" y="169992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>
                  <a:off x="3344760" y="206028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25"/>
              <p:cNvSpPr/>
              <p:nvPr/>
            </p:nvSpPr>
            <p:spPr>
              <a:xfrm>
                <a:off x="3419280" y="1628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26"/>
            <p:cNvSpPr/>
            <p:nvPr/>
          </p:nvSpPr>
          <p:spPr>
            <a:xfrm>
              <a:off x="3419640" y="20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2771640" y="1915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2841480" y="234756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2912760" y="2419200"/>
              <a:ext cx="277560" cy="387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0"/>
          <p:cNvGrpSpPr/>
          <p:nvPr/>
        </p:nvGrpSpPr>
        <p:grpSpPr>
          <a:xfrm>
            <a:off x="3348000" y="2060640"/>
            <a:ext cx="1293480" cy="1178280"/>
            <a:chOff x="3348000" y="2060640"/>
            <a:chExt cx="1293480" cy="1178280"/>
          </a:xfrm>
        </p:grpSpPr>
        <p:grpSp>
          <p:nvGrpSpPr>
            <p:cNvPr id="183" name="Group 31"/>
            <p:cNvGrpSpPr/>
            <p:nvPr/>
          </p:nvGrpSpPr>
          <p:grpSpPr>
            <a:xfrm>
              <a:off x="3921120" y="2060640"/>
              <a:ext cx="720360" cy="792000"/>
              <a:chOff x="3921120" y="2060640"/>
              <a:chExt cx="720360" cy="792000"/>
            </a:xfrm>
          </p:grpSpPr>
          <p:grpSp>
            <p:nvGrpSpPr>
              <p:cNvPr id="184" name="Group 32"/>
              <p:cNvGrpSpPr/>
              <p:nvPr/>
            </p:nvGrpSpPr>
            <p:grpSpPr>
              <a:xfrm>
                <a:off x="3921120" y="2131920"/>
                <a:ext cx="720360" cy="720720"/>
                <a:chOff x="3921120" y="2131920"/>
                <a:chExt cx="720360" cy="720720"/>
              </a:xfrm>
            </p:grpSpPr>
            <p:sp>
              <p:nvSpPr>
                <p:cNvPr id="185" name="Line 33"/>
                <p:cNvSpPr/>
                <p:nvPr/>
              </p:nvSpPr>
              <p:spPr>
                <a:xfrm>
                  <a:off x="3921120" y="213192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921120" y="249228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35"/>
              <p:cNvSpPr/>
              <p:nvPr/>
            </p:nvSpPr>
            <p:spPr>
              <a:xfrm>
                <a:off x="399564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36"/>
            <p:cNvSpPr/>
            <p:nvPr/>
          </p:nvSpPr>
          <p:spPr>
            <a:xfrm>
              <a:off x="3996000" y="2492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7"/>
            <p:cNvSpPr/>
            <p:nvPr/>
          </p:nvSpPr>
          <p:spPr>
            <a:xfrm>
              <a:off x="3348000" y="234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3417840" y="277956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9"/>
            <p:cNvSpPr/>
            <p:nvPr/>
          </p:nvSpPr>
          <p:spPr>
            <a:xfrm>
              <a:off x="3489120" y="2851200"/>
              <a:ext cx="277560" cy="387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40"/>
          <p:cNvGrpSpPr/>
          <p:nvPr/>
        </p:nvGrpSpPr>
        <p:grpSpPr>
          <a:xfrm>
            <a:off x="3924000" y="2492280"/>
            <a:ext cx="1294200" cy="1178280"/>
            <a:chOff x="3924000" y="2492280"/>
            <a:chExt cx="1294200" cy="1178280"/>
          </a:xfrm>
        </p:grpSpPr>
        <p:grpSp>
          <p:nvGrpSpPr>
            <p:cNvPr id="193" name="Group 41"/>
            <p:cNvGrpSpPr/>
            <p:nvPr/>
          </p:nvGrpSpPr>
          <p:grpSpPr>
            <a:xfrm>
              <a:off x="4497480" y="2492280"/>
              <a:ext cx="720720" cy="792000"/>
              <a:chOff x="4497480" y="2492280"/>
              <a:chExt cx="720720" cy="792000"/>
            </a:xfrm>
          </p:grpSpPr>
          <p:grpSp>
            <p:nvGrpSpPr>
              <p:cNvPr id="194" name="Group 42"/>
              <p:cNvGrpSpPr/>
              <p:nvPr/>
            </p:nvGrpSpPr>
            <p:grpSpPr>
              <a:xfrm>
                <a:off x="4497480" y="2563560"/>
                <a:ext cx="720720" cy="720720"/>
                <a:chOff x="4497480" y="2563560"/>
                <a:chExt cx="720720" cy="720720"/>
              </a:xfrm>
            </p:grpSpPr>
            <p:sp>
              <p:nvSpPr>
                <p:cNvPr id="195" name="Line 43"/>
                <p:cNvSpPr/>
                <p:nvPr/>
              </p:nvSpPr>
              <p:spPr>
                <a:xfrm>
                  <a:off x="4497480" y="256356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4497480" y="292392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Rectangle 45"/>
              <p:cNvSpPr/>
              <p:nvPr/>
            </p:nvSpPr>
            <p:spPr>
              <a:xfrm>
                <a:off x="4572360" y="2492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Rectangle 46"/>
            <p:cNvSpPr/>
            <p:nvPr/>
          </p:nvSpPr>
          <p:spPr>
            <a:xfrm>
              <a:off x="4572360" y="2923920"/>
              <a:ext cx="34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7"/>
            <p:cNvSpPr/>
            <p:nvPr/>
          </p:nvSpPr>
          <p:spPr>
            <a:xfrm>
              <a:off x="3924000" y="2779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994200" y="32112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9"/>
            <p:cNvSpPr/>
            <p:nvPr/>
          </p:nvSpPr>
          <p:spPr>
            <a:xfrm>
              <a:off x="4065480" y="3282840"/>
              <a:ext cx="277920" cy="387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61"/>
          <p:cNvSpPr/>
          <p:nvPr/>
        </p:nvSpPr>
        <p:spPr>
          <a:xfrm>
            <a:off x="4788000" y="386064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=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5"/>
          <p:cNvSpPr/>
          <p:nvPr/>
        </p:nvSpPr>
        <p:spPr>
          <a:xfrm>
            <a:off x="7236000" y="2708280"/>
            <a:ext cx="1512720" cy="720720"/>
          </a:xfrm>
          <a:prstGeom prst="wedgeRoundRectCallout">
            <a:avLst>
              <a:gd name="adj1" fmla="val -40870"/>
              <a:gd name="adj2" fmla="val 167842"/>
              <a:gd name="adj3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826920" y="522936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3 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0"/>
          <p:cNvSpPr/>
          <p:nvPr/>
        </p:nvSpPr>
        <p:spPr>
          <a:xfrm>
            <a:off x="2478960" y="47973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= 16 + 2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2"/>
          <p:cNvSpPr/>
          <p:nvPr/>
        </p:nvSpPr>
        <p:spPr>
          <a:xfrm flipH="1" flipV="1">
            <a:off x="5292360" y="479736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60"/>
          <p:cNvGrpSpPr/>
          <p:nvPr/>
        </p:nvGrpSpPr>
        <p:grpSpPr>
          <a:xfrm>
            <a:off x="2123640" y="2276640"/>
            <a:ext cx="2664000" cy="1800000"/>
            <a:chOff x="2123640" y="2276640"/>
            <a:chExt cx="2664000" cy="1800000"/>
          </a:xfrm>
        </p:grpSpPr>
        <p:sp>
          <p:nvSpPr>
            <p:cNvPr id="208" name="Line 72"/>
            <p:cNvSpPr/>
            <p:nvPr/>
          </p:nvSpPr>
          <p:spPr>
            <a:xfrm flipH="1">
              <a:off x="4211280" y="3429000"/>
              <a:ext cx="576360" cy="64764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3"/>
            <p:cNvSpPr/>
            <p:nvPr/>
          </p:nvSpPr>
          <p:spPr>
            <a:xfrm flipH="1" flipV="1">
              <a:off x="2123640" y="2276640"/>
              <a:ext cx="2087640" cy="18000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62"/>
          <p:cNvGrpSpPr/>
          <p:nvPr/>
        </p:nvGrpSpPr>
        <p:grpSpPr>
          <a:xfrm>
            <a:off x="816120" y="4788000"/>
            <a:ext cx="1601280" cy="718200"/>
            <a:chOff x="816120" y="4788000"/>
            <a:chExt cx="1601280" cy="718200"/>
          </a:xfrm>
        </p:grpSpPr>
        <p:sp>
          <p:nvSpPr>
            <p:cNvPr id="211" name="Rectangle 67"/>
            <p:cNvSpPr/>
            <p:nvPr/>
          </p:nvSpPr>
          <p:spPr>
            <a:xfrm>
              <a:off x="816120" y="4788000"/>
              <a:ext cx="1601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0010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4"/>
            <p:cNvSpPr/>
            <p:nvPr/>
          </p:nvSpPr>
          <p:spPr>
            <a:xfrm>
              <a:off x="826920" y="5300640"/>
              <a:ext cx="1295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72"/>
          <p:cNvSpPr/>
          <p:nvPr/>
        </p:nvSpPr>
        <p:spPr>
          <a:xfrm flipH="1" flipV="1">
            <a:off x="7811640" y="486900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2"/>
          <p:cNvSpPr/>
          <p:nvPr/>
        </p:nvSpPr>
        <p:spPr>
          <a:xfrm flipH="1" flipV="1">
            <a:off x="4211280" y="479736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61"/>
          <p:cNvGrpSpPr/>
          <p:nvPr/>
        </p:nvGrpSpPr>
        <p:grpSpPr>
          <a:xfrm>
            <a:off x="714240" y="4286160"/>
            <a:ext cx="1224000" cy="459720"/>
            <a:chOff x="714240" y="4286160"/>
            <a:chExt cx="1224000" cy="459720"/>
          </a:xfrm>
        </p:grpSpPr>
        <p:sp>
          <p:nvSpPr>
            <p:cNvPr id="216" name="Rectangle 4"/>
            <p:cNvSpPr/>
            <p:nvPr/>
          </p:nvSpPr>
          <p:spPr>
            <a:xfrm>
              <a:off x="714240" y="4286160"/>
              <a:ext cx="1224000" cy="459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    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1072800" y="45021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4"/>
          <p:cNvSpPr/>
          <p:nvPr/>
        </p:nvSpPr>
        <p:spPr>
          <a:xfrm>
            <a:off x="611280" y="1052640"/>
            <a:ext cx="122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1114560" y="126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6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D49A-BA4F-46BF-A905-77F4C0DE5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7640" y="714240"/>
            <a:ext cx="872316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286080" y="3428640"/>
            <a:ext cx="6051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E29-D70A-480E-82FA-8CC69FD71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C:\Documents and Settings\рабочая\Рабочий стол\открытый урок\открытый урок\JT.1985-01.img02.gif"/>
          <p:cNvPicPr/>
          <p:nvPr/>
        </p:nvPicPr>
        <p:blipFill>
          <a:blip r:embed="rId1"/>
          <a:stretch/>
        </p:blipFill>
        <p:spPr>
          <a:xfrm>
            <a:off x="0" y="1521000"/>
            <a:ext cx="3219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 flipV="1">
            <a:off x="214200" y="749160"/>
            <a:ext cx="8786880" cy="460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4292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ить в двоичной системе счисления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76640" y="1125360"/>
            <a:ext cx="1529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156280" y="1125360"/>
            <a:ext cx="1218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0D4-6FF0-44AB-BF4E-9B23FBFBC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ACA-CA1A-4FC4-B734-A1BD58A8244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"/>
          <p:cNvSpPr/>
          <p:nvPr/>
        </p:nvSpPr>
        <p:spPr>
          <a:xfrm flipV="1">
            <a:off x="0" y="749160"/>
            <a:ext cx="9072720" cy="460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14292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редставить в десятичной системе счисления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89600" y="1125360"/>
            <a:ext cx="2642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1101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60880" y="2997360"/>
            <a:ext cx="233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B4F-3031-4E4C-9C46-055512085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14200" y="214200"/>
            <a:ext cx="892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ить в римской системе счисления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76640" y="1125360"/>
            <a:ext cx="1529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9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76640" y="2444760"/>
            <a:ext cx="1840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911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70880" y="376380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1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76640" y="5084640"/>
            <a:ext cx="1840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99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C20-2E74-4B17-8B36-9788D59F9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7640" y="714240"/>
            <a:ext cx="872316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286080" y="3428640"/>
            <a:ext cx="6051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638-8A61-4835-8784-7847E3651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C:\Documents and Settings\рабочая\Рабочий стол\открытый урок\открытый урок\JT.1985-01.img02.gif"/>
          <p:cNvPicPr/>
          <p:nvPr/>
        </p:nvPicPr>
        <p:blipFill>
          <a:blip r:embed="rId1"/>
          <a:stretch/>
        </p:blipFill>
        <p:spPr>
          <a:xfrm>
            <a:off x="0" y="1521000"/>
            <a:ext cx="3219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6057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43240" y="2968560"/>
            <a:ext cx="478656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епозиционная 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зиционная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7DF7-B7BF-466F-82D4-6F8120EE7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:\Documents and Settings\рабочая\Рабочий стол\открытый урок\открытый урок\JT.1985-01.img02.gif"/>
          <p:cNvPicPr/>
          <p:nvPr/>
        </p:nvPicPr>
        <p:blipFill>
          <a:blip r:embed="rId1"/>
          <a:stretch/>
        </p:blipFill>
        <p:spPr>
          <a:xfrm>
            <a:off x="0" y="1521000"/>
            <a:ext cx="3219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4572000" y="32670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712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1763640" y="1628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268360" y="2276640"/>
            <a:ext cx="1297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127400" y="1557360"/>
            <a:ext cx="245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1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0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6443640" y="148428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7093080" y="2133720"/>
            <a:ext cx="1296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539640" y="422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50920" y="3860640"/>
            <a:ext cx="352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LIV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MCDLVIII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576-826A-4281-9585-E50CDF366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5920" y="0"/>
            <a:ext cx="647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p-science.hut.ru/Progr/Syst_S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стема_с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homepages.atnet.ru/volo/glav1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tsievsky.newmail.ru/sys-schi/sys-sch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rugosvet.ru/enc/nauka_i_tehnika/matematika/TSIFRI_I_SISTEMI_SCHISLENIY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rusedu.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ubovinkin.naro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anastasi-shherbakova.naro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64z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uchmark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milogiya2008.ru/mayakalendar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arbinada.com/pmk/node/169/function.session-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takan7.narod.ru/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lanetcalc.ru/search/?tag=2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iki.vspu.ru/doku.php?do=export_xhtml&amp;id=workroom:iteach2007:fedoseevabdigalikova: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vikamath.ucoz.ru/index/0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yabs.yandex.ru/show/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ский «Справочник по элементарной математи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В. Фомин «Системы счис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bsu.ru/~book/theory/litera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penclass.ru/lessons/29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6891-0B8B-4B52-BEAB-3ABCE2CD5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3640" y="1125360"/>
            <a:ext cx="581976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57760" y="3499920"/>
            <a:ext cx="50004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8AED-9494-4BF2-9D7B-C4E5BA7F6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рабочая\Рабочий стол\открытый урок\открытый урок\JT.1985-01.img02.gif"/>
          <p:cNvPicPr/>
          <p:nvPr/>
        </p:nvPicPr>
        <p:blipFill>
          <a:blip r:embed="rId1"/>
          <a:stretch/>
        </p:blipFill>
        <p:spPr>
          <a:xfrm>
            <a:off x="0" y="1521000"/>
            <a:ext cx="3219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5680" y="142560"/>
            <a:ext cx="8412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81440" y="1196640"/>
            <a:ext cx="882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Систе́ма счисле́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мволический метод записи чисел, представление чисел с помощью письменных з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357120" y="5483160"/>
            <a:ext cx="91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ражает алгебраическую и арифметическую структуру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14560" y="327816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51000" y="3929040"/>
            <a:ext cx="68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аёт представления множества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57120" y="4475160"/>
            <a:ext cx="90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аёт каждому числу уникальное представление (или, по крайней мере, стандартное представлени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6EA-96FB-493B-829B-36B46E76A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C:\Documents and Settings\рабочая\Рабочий стол\открытый урок\открытый урок\globe-and-instruments.jpg"/>
          <p:cNvPicPr/>
          <p:nvPr/>
        </p:nvPicPr>
        <p:blipFill>
          <a:blip r:embed="rId1"/>
          <a:stretch/>
        </p:blipFill>
        <p:spPr>
          <a:xfrm>
            <a:off x="6734160" y="2500200"/>
            <a:ext cx="24098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систем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95280" y="371628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зиц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56760" y="99216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позиц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714680" y="164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это система счисления, в которой величина (значение) числа определяется как сумма или разность цифр в чи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870200" y="429696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истема счисления, в которой величина, обозначаемая цифрой, зависит от места (позиции) цифры в числе.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C1CA-218C-4ECC-AEEB-8FAEC254E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71840" y="1214280"/>
            <a:ext cx="7223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357440" y="3960360"/>
            <a:ext cx="450036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епозицио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9C3-A2E9-414C-AD84-16AF671DE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:\Documents and Settings\рабочая\Рабочий стол\открытый урок\открытый урок\JT.1985-01.img02.gif"/>
          <p:cNvPicPr/>
          <p:nvPr/>
        </p:nvPicPr>
        <p:blipFill>
          <a:blip r:embed="rId1"/>
          <a:stretch/>
        </p:blipFill>
        <p:spPr>
          <a:xfrm>
            <a:off x="0" y="1521000"/>
            <a:ext cx="3219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836640"/>
            <a:ext cx="86090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нар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а цифра обозначает единицу (1 день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амень, 1 баран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933560" cy="154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763640" y="3933720"/>
            <a:ext cx="1835280" cy="206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zarub"/>
          <p:cNvPicPr/>
          <p:nvPr/>
        </p:nvPicPr>
        <p:blipFill>
          <a:blip r:embed="rId3"/>
          <a:stretch/>
        </p:blipFill>
        <p:spPr>
          <a:xfrm>
            <a:off x="3276720" y="2205000"/>
            <a:ext cx="4317840" cy="55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5286240" y="3143160"/>
            <a:ext cx="252432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CFB6-A76D-4F1F-B62C-40D438FEE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авянская система 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21920" y="94464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ная система счисления (непозицио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512748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70F5-CC1C-44BB-9830-6D1046C51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5920" y="91908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им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(пал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крытая ладо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е ладон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mimil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00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римская"/>
          <p:cNvPicPr/>
          <p:nvPr/>
        </p:nvPicPr>
        <p:blipFill>
          <a:blip r:embed="rId1"/>
          <a:stretch/>
        </p:blipFill>
        <p:spPr>
          <a:xfrm>
            <a:off x="5500800" y="857160"/>
            <a:ext cx="244296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357-5662-4A5A-8668-FBA4AB3A8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"/>
          <p:cNvSpPr/>
          <p:nvPr/>
        </p:nvSpPr>
        <p:spPr>
          <a:xfrm>
            <a:off x="376200" y="78588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:\Documents and Settings\рабочая\Мои документы\Мои рисунки\33.bmp"/>
          <p:cNvPicPr/>
          <p:nvPr/>
        </p:nvPicPr>
        <p:blipFill>
          <a:blip r:embed="rId2"/>
          <a:stretch/>
        </p:blipFill>
        <p:spPr>
          <a:xfrm>
            <a:off x="4572000" y="3857760"/>
            <a:ext cx="3962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6:32:51Z</dcterms:created>
  <dc:creator>mouse</dc:creator>
  <dc:description/>
  <dc:language>en-US</dc:language>
  <cp:lastModifiedBy>Admin</cp:lastModifiedBy>
  <dcterms:modified xsi:type="dcterms:W3CDTF">2012-04-04T11:52:44Z</dcterms:modified>
  <cp:revision>44</cp:revision>
  <dc:subject/>
  <dc:title>Системы счисления</dc:title>
</cp:coreProperties>
</file>