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CE7E-7082-4FD8-8CF0-E0F82953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803-CCAB-49E1-A694-F489762C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37B3-05FA-4BA4-9D2A-85CAF3B0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4C0-097C-4E08-9688-4727F348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64D7-4D60-491E-BCD7-4B38CE9D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B528-FBA3-4E3C-B380-A17CFE78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786D-B21A-44EC-860F-8DBCA7B8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D96E-AB01-4106-A715-BB965079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5110-C15B-4516-A90F-C3891BC9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6F02-3861-42C3-8136-11851988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E3F5-3C11-41CC-88F2-F1F83D5D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C73-DFCC-4005-9B90-D438A20D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A68D-43A8-4D68-AD7F-A01281A5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9183-FE7A-431C-AF03-1545AEA0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902C-21DB-4211-835D-90075E00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CFF7-6641-4988-8190-BEA73F5F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C858-2EC3-4786-8769-293C2918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623C-FD84-45B7-9A46-485608FB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636-8512-4752-9448-243FA2DB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48AD-ADD4-41A0-B9D4-6AB24F60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BF7-68DC-41B8-8E54-49147CAD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547-92B1-4D41-98CE-14B1AB0E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400-EB0B-485C-A8BF-CAC8FC4C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86C-CC6D-433D-9C17-98039476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07AD-4696-44CD-B57A-1C6859B5512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4194-B298-4A71-882B-0D1D3D4656AD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8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1071720" y="142920"/>
            <a:ext cx="7704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Измерени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информа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2071800" y="414324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Алфавитный подход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928800" y="1928880"/>
            <a:ext cx="79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именьшую мощность имеет алфавит, используемый в компьютере (машинный язык), его называют двоичным алфавитом, т.к. он содержит только два знака «0», «1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71680" y="4286160"/>
            <a:ext cx="8281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Информационный вес символа двоичного алфавита принят за единицу измерения информации и называетс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1 бит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6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AutoShape 7">
            <a:hlinkClick r:id="rId1" action="ppaction://hlinksldjump"/>
          </p:cNvPr>
          <p:cNvSpPr/>
          <p:nvPr/>
        </p:nvSpPr>
        <p:spPr>
          <a:xfrm>
            <a:off x="8028000" y="638172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11444" y="3837"/>
                </a:moveTo>
                <a:lnTo>
                  <a:pt x="14021" y="6448"/>
                </a:ln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lnTo>
                  <a:pt x="18407" y="10800"/>
                </a:lnTo>
                <a:lnTo>
                  <a:pt x="16754" y="10800"/>
                </a:lnTo>
                <a:lnTo>
                  <a:pt x="16754" y="17989"/>
                </a:lnTo>
                <a:lnTo>
                  <a:pt x="6135" y="17989"/>
                </a:lnTo>
                <a:lnTo>
                  <a:pt x="6135" y="10800"/>
                </a:lnTo>
                <a:lnTo>
                  <a:pt x="4481" y="10800"/>
                </a:lnTo>
                <a:close/>
              </a:path>
              <a:path fill="darkenLess" w="22889" h="21600">
                <a:moveTo>
                  <a:pt x="14021" y="6448"/>
                </a:move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close/>
              </a:path>
              <a:path fill="darkenLess" w="22889" h="21600">
                <a:moveTo>
                  <a:pt x="10522" y="14299"/>
                </a:moveTo>
                <a:lnTo>
                  <a:pt x="12367" y="14299"/>
                </a:lnTo>
                <a:lnTo>
                  <a:pt x="12367" y="17989"/>
                </a:lnTo>
                <a:lnTo>
                  <a:pt x="16754" y="17989"/>
                </a:lnTo>
                <a:lnTo>
                  <a:pt x="16754" y="10800"/>
                </a:lnTo>
                <a:lnTo>
                  <a:pt x="6135" y="10800"/>
                </a:lnTo>
                <a:lnTo>
                  <a:pt x="6135" y="17989"/>
                </a:lnTo>
                <a:lnTo>
                  <a:pt x="10522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1403280" y="9810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Tahoma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900000" y="2276640"/>
            <a:ext cx="5113440" cy="38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Информация, записанная на машинном языке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0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010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01111110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335640" y="2781360"/>
            <a:ext cx="280836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ahoma"/>
              </a:rPr>
              <a:t>весит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5 б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6 б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3 б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13 б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2195640" y="386064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2340000" y="4508640"/>
            <a:ext cx="489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1763640" y="5229360"/>
            <a:ext cx="540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3564000" y="5877000"/>
            <a:ext cx="3600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11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8028000" y="638172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11444" y="3837"/>
                </a:moveTo>
                <a:lnTo>
                  <a:pt x="14021" y="6448"/>
                </a:ln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lnTo>
                  <a:pt x="18407" y="10800"/>
                </a:lnTo>
                <a:lnTo>
                  <a:pt x="16754" y="10800"/>
                </a:lnTo>
                <a:lnTo>
                  <a:pt x="16754" y="17989"/>
                </a:lnTo>
                <a:lnTo>
                  <a:pt x="6135" y="17989"/>
                </a:lnTo>
                <a:lnTo>
                  <a:pt x="6135" y="10800"/>
                </a:lnTo>
                <a:lnTo>
                  <a:pt x="4481" y="10800"/>
                </a:lnTo>
                <a:close/>
              </a:path>
              <a:path fill="darkenLess" w="22889" h="21600">
                <a:moveTo>
                  <a:pt x="14021" y="6448"/>
                </a:move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close/>
              </a:path>
              <a:path fill="darkenLess" w="22889" h="21600">
                <a:moveTo>
                  <a:pt x="10522" y="14299"/>
                </a:moveTo>
                <a:lnTo>
                  <a:pt x="12367" y="14299"/>
                </a:lnTo>
                <a:lnTo>
                  <a:pt x="12367" y="17989"/>
                </a:lnTo>
                <a:lnTo>
                  <a:pt x="16754" y="17989"/>
                </a:lnTo>
                <a:lnTo>
                  <a:pt x="16754" y="10800"/>
                </a:lnTo>
                <a:lnTo>
                  <a:pt x="6135" y="10800"/>
                </a:lnTo>
                <a:lnTo>
                  <a:pt x="6135" y="17989"/>
                </a:lnTo>
                <a:lnTo>
                  <a:pt x="10522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5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468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и алфавитном подходе  считают, что каждый символ текста, имеет информа-ционный ве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ый вес символа зависит от мощности алфави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 увеличением мощности алфавита, уве-личивается информационный вес символа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5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8028000" y="638172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11444" y="3837"/>
                </a:moveTo>
                <a:lnTo>
                  <a:pt x="14021" y="6448"/>
                </a:ln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lnTo>
                  <a:pt x="18407" y="10800"/>
                </a:lnTo>
                <a:lnTo>
                  <a:pt x="16754" y="10800"/>
                </a:lnTo>
                <a:lnTo>
                  <a:pt x="16754" y="17989"/>
                </a:lnTo>
                <a:lnTo>
                  <a:pt x="6135" y="17989"/>
                </a:lnTo>
                <a:lnTo>
                  <a:pt x="6135" y="10800"/>
                </a:lnTo>
                <a:lnTo>
                  <a:pt x="4481" y="10800"/>
                </a:lnTo>
                <a:close/>
              </a:path>
              <a:path fill="darkenLess" w="22889" h="21600">
                <a:moveTo>
                  <a:pt x="14021" y="6448"/>
                </a:move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close/>
              </a:path>
              <a:path fill="darkenLess" w="22889" h="21600">
                <a:moveTo>
                  <a:pt x="10522" y="14299"/>
                </a:moveTo>
                <a:lnTo>
                  <a:pt x="12367" y="14299"/>
                </a:lnTo>
                <a:lnTo>
                  <a:pt x="12367" y="17989"/>
                </a:lnTo>
                <a:lnTo>
                  <a:pt x="16754" y="17989"/>
                </a:lnTo>
                <a:lnTo>
                  <a:pt x="16754" y="10800"/>
                </a:lnTo>
                <a:lnTo>
                  <a:pt x="6135" y="10800"/>
                </a:lnTo>
                <a:lnTo>
                  <a:pt x="6135" y="17989"/>
                </a:lnTo>
                <a:lnTo>
                  <a:pt x="10522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1258920" y="333360"/>
            <a:ext cx="76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измерения объёма информации необходимо определить сколько раз информация равная 1 биту содержится в определяемом объёме информ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214200" y="2000160"/>
            <a:ext cx="85694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озьмём четырёхзначный алфавит (придуманный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38"/>
          <p:cNvSpPr/>
          <p:nvPr/>
        </p:nvSpPr>
        <p:spPr>
          <a:xfrm>
            <a:off x="2556000" y="3260880"/>
            <a:ext cx="24476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рядковый номе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2556000" y="2708280"/>
            <a:ext cx="244764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имво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7970760" y="3811680"/>
            <a:ext cx="988920" cy="552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6981840" y="3811680"/>
            <a:ext cx="988920" cy="552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5992920" y="3811680"/>
            <a:ext cx="988920" cy="552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5003640" y="3811680"/>
            <a:ext cx="989280" cy="552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250920" y="3811680"/>
            <a:ext cx="4752720" cy="552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вузначный двоичный ко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7970760" y="3260880"/>
            <a:ext cx="988920" cy="550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6981840" y="3260880"/>
            <a:ext cx="988920" cy="550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5992920" y="3260880"/>
            <a:ext cx="988920" cy="550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5003640" y="3260880"/>
            <a:ext cx="989280" cy="550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7970760" y="2708280"/>
            <a:ext cx="988920" cy="55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6981840" y="2708280"/>
            <a:ext cx="988920" cy="55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5992920" y="2708280"/>
            <a:ext cx="988920" cy="55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5003640" y="2708280"/>
            <a:ext cx="989280" cy="55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50920" y="2708280"/>
            <a:ext cx="2305080" cy="1103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тырёхзначный алфави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22"/>
          <p:cNvSpPr/>
          <p:nvPr/>
        </p:nvSpPr>
        <p:spPr>
          <a:xfrm>
            <a:off x="250920" y="2708280"/>
            <a:ext cx="87087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250920" y="3811680"/>
            <a:ext cx="870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5"/>
          <p:cNvSpPr/>
          <p:nvPr/>
        </p:nvSpPr>
        <p:spPr>
          <a:xfrm>
            <a:off x="250920" y="4365720"/>
            <a:ext cx="87087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6"/>
          <p:cNvSpPr/>
          <p:nvPr/>
        </p:nvSpPr>
        <p:spPr>
          <a:xfrm>
            <a:off x="250920" y="2708280"/>
            <a:ext cx="0" cy="1655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27"/>
          <p:cNvSpPr/>
          <p:nvPr/>
        </p:nvSpPr>
        <p:spPr>
          <a:xfrm>
            <a:off x="5003640" y="2708280"/>
            <a:ext cx="0" cy="16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28"/>
          <p:cNvSpPr/>
          <p:nvPr/>
        </p:nvSpPr>
        <p:spPr>
          <a:xfrm>
            <a:off x="5992920" y="2708280"/>
            <a:ext cx="0" cy="16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29"/>
          <p:cNvSpPr/>
          <p:nvPr/>
        </p:nvSpPr>
        <p:spPr>
          <a:xfrm>
            <a:off x="6981840" y="2708280"/>
            <a:ext cx="0" cy="16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30"/>
          <p:cNvSpPr/>
          <p:nvPr/>
        </p:nvSpPr>
        <p:spPr>
          <a:xfrm>
            <a:off x="7970760" y="2708280"/>
            <a:ext cx="0" cy="16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Line 31"/>
          <p:cNvSpPr/>
          <p:nvPr/>
        </p:nvSpPr>
        <p:spPr>
          <a:xfrm>
            <a:off x="8959680" y="2708280"/>
            <a:ext cx="0" cy="1655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36"/>
          <p:cNvSpPr/>
          <p:nvPr/>
        </p:nvSpPr>
        <p:spPr>
          <a:xfrm>
            <a:off x="2556000" y="2708280"/>
            <a:ext cx="0" cy="11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39"/>
          <p:cNvSpPr/>
          <p:nvPr/>
        </p:nvSpPr>
        <p:spPr>
          <a:xfrm>
            <a:off x="2556000" y="3260880"/>
            <a:ext cx="640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53"/>
          <p:cNvSpPr/>
          <p:nvPr/>
        </p:nvSpPr>
        <p:spPr>
          <a:xfrm>
            <a:off x="285840" y="4429080"/>
            <a:ext cx="86421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се символы исходного алфавита можно закодировать всеми возможными комбинациями из двух цифр двоичного алфавит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лучим двоичный код каждого символа алфави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57"/>
          <p:cNvSpPr/>
          <p:nvPr/>
        </p:nvSpPr>
        <p:spPr>
          <a:xfrm>
            <a:off x="214200" y="5857920"/>
            <a:ext cx="864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Следовательно, каждый символ четырёхзначного алфавита весит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 бита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AutoShape 58">
            <a:hlinkClick r:id="" action="ppaction://hlinkshowjump?jump=previousslide"/>
          </p:cNvPr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7493"/>
                </a:moveTo>
                <a:lnTo>
                  <a:pt x="13977" y="7493"/>
                </a:lnTo>
                <a:lnTo>
                  <a:pt x="13977" y="12828"/>
                </a:lnTo>
                <a:cubicBezTo>
                  <a:pt x="13977" y="13751"/>
                  <a:pt x="14778" y="14482"/>
                  <a:pt x="15813" y="14482"/>
                </a:cubicBezTo>
                <a:lnTo>
                  <a:pt x="17476" y="14482"/>
                </a:lnTo>
                <a:cubicBezTo>
                  <a:pt x="18511" y="14482"/>
                  <a:pt x="19312" y="13751"/>
                  <a:pt x="19312" y="12828"/>
                </a:cubicBezTo>
                <a:lnTo>
                  <a:pt x="19312" y="7493"/>
                </a:lnTo>
                <a:lnTo>
                  <a:pt x="17476" y="7493"/>
                </a:lnTo>
                <a:lnTo>
                  <a:pt x="20983" y="3985"/>
                </a:lnTo>
                <a:lnTo>
                  <a:pt x="24656" y="7493"/>
                </a:lnTo>
                <a:lnTo>
                  <a:pt x="22820" y="7493"/>
                </a:lnTo>
                <a:lnTo>
                  <a:pt x="22820" y="12828"/>
                </a:lnTo>
                <a:cubicBezTo>
                  <a:pt x="22820" y="15596"/>
                  <a:pt x="20244" y="18155"/>
                  <a:pt x="17476" y="18155"/>
                </a:cubicBezTo>
                <a:lnTo>
                  <a:pt x="15813" y="18155"/>
                </a:lnTo>
                <a:cubicBezTo>
                  <a:pt x="13046" y="18155"/>
                  <a:pt x="10469" y="15596"/>
                  <a:pt x="10469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AutoShape 59"/>
          <p:cNvSpPr/>
          <p:nvPr/>
        </p:nvSpPr>
        <p:spPr>
          <a:xfrm>
            <a:off x="8028000" y="6524640"/>
            <a:ext cx="504720" cy="333360"/>
          </a:xfrm>
          <a:custGeom>
            <a:avLst/>
            <a:gdLst>
              <a:gd name="textAreaLeft" fmla="*/ 21600 w 504720"/>
              <a:gd name="textAreaRight" fmla="*/ 483120 w 504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691" h="21600">
                <a:moveTo>
                  <a:pt x="0" y="0"/>
                </a:moveTo>
                <a:lnTo>
                  <a:pt x="32691" y="0"/>
                </a:lnTo>
                <a:lnTo>
                  <a:pt x="32691" y="21600"/>
                </a:lnTo>
                <a:lnTo>
                  <a:pt x="0" y="21600"/>
                </a:lnTo>
                <a:close/>
              </a:path>
              <a:path fill="lightenLess" w="32691" h="21600">
                <a:moveTo>
                  <a:pt x="0" y="0"/>
                </a:moveTo>
                <a:lnTo>
                  <a:pt x="32691" y="0"/>
                </a:lnTo>
                <a:lnTo>
                  <a:pt x="31291" y="1400"/>
                </a:lnTo>
                <a:lnTo>
                  <a:pt x="1400" y="1400"/>
                </a:lnTo>
                <a:close/>
              </a:path>
              <a:path fill="darken" w="32691" h="21600">
                <a:moveTo>
                  <a:pt x="32691" y="0"/>
                </a:moveTo>
                <a:lnTo>
                  <a:pt x="32691" y="21600"/>
                </a:lnTo>
                <a:lnTo>
                  <a:pt x="31291" y="20200"/>
                </a:lnTo>
                <a:lnTo>
                  <a:pt x="31291" y="1400"/>
                </a:lnTo>
                <a:close/>
              </a:path>
              <a:path fill="darkenLess" w="32691" h="21600">
                <a:moveTo>
                  <a:pt x="32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91" y="20200"/>
                </a:lnTo>
                <a:close/>
              </a:path>
              <a:path fill="lighten" w="32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91" h="21600">
                <a:moveTo>
                  <a:pt x="16346" y="3837"/>
                </a:moveTo>
                <a:lnTo>
                  <a:pt x="18922" y="6448"/>
                </a:lnTo>
                <a:lnTo>
                  <a:pt x="18922" y="4707"/>
                </a:lnTo>
                <a:lnTo>
                  <a:pt x="20697" y="4707"/>
                </a:lnTo>
                <a:lnTo>
                  <a:pt x="20697" y="8224"/>
                </a:lnTo>
                <a:lnTo>
                  <a:pt x="23309" y="10800"/>
                </a:lnTo>
                <a:lnTo>
                  <a:pt x="21655" y="10800"/>
                </a:lnTo>
                <a:lnTo>
                  <a:pt x="21655" y="17989"/>
                </a:lnTo>
                <a:lnTo>
                  <a:pt x="11036" y="17989"/>
                </a:lnTo>
                <a:lnTo>
                  <a:pt x="11036" y="10800"/>
                </a:lnTo>
                <a:lnTo>
                  <a:pt x="9383" y="10800"/>
                </a:lnTo>
                <a:close/>
              </a:path>
              <a:path fill="darkenLess" w="32691" h="21600">
                <a:moveTo>
                  <a:pt x="18922" y="6448"/>
                </a:moveTo>
                <a:lnTo>
                  <a:pt x="18922" y="4707"/>
                </a:lnTo>
                <a:lnTo>
                  <a:pt x="20697" y="4707"/>
                </a:lnTo>
                <a:lnTo>
                  <a:pt x="20697" y="8224"/>
                </a:lnTo>
                <a:close/>
              </a:path>
              <a:path fill="darkenLess" w="32691" h="21600">
                <a:moveTo>
                  <a:pt x="15423" y="14299"/>
                </a:moveTo>
                <a:lnTo>
                  <a:pt x="17268" y="14299"/>
                </a:lnTo>
                <a:lnTo>
                  <a:pt x="17268" y="17989"/>
                </a:lnTo>
                <a:lnTo>
                  <a:pt x="21655" y="17989"/>
                </a:lnTo>
                <a:lnTo>
                  <a:pt x="21655" y="10800"/>
                </a:lnTo>
                <a:lnTo>
                  <a:pt x="11036" y="10800"/>
                </a:lnTo>
                <a:lnTo>
                  <a:pt x="11036" y="17989"/>
                </a:lnTo>
                <a:lnTo>
                  <a:pt x="15423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179280" y="2444760"/>
          <a:ext cx="8777520" cy="1200240"/>
        </p:xfrm>
        <a:graphic>
          <a:graphicData uri="http://schemas.openxmlformats.org/drawingml/2006/table">
            <a:tbl>
              <a:tblPr/>
              <a:tblGrid>
                <a:gridCol w="2300400"/>
                <a:gridCol w="1650960"/>
                <a:gridCol w="603360"/>
                <a:gridCol w="603000"/>
                <a:gridCol w="603360"/>
                <a:gridCol w="603360"/>
                <a:gridCol w="603360"/>
                <a:gridCol w="603000"/>
                <a:gridCol w="603360"/>
                <a:gridCol w="603360"/>
              </a:tblGrid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етырёхзначный алфав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рядковый 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вузначный двоичный к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01" name="Text Box 90"/>
          <p:cNvSpPr/>
          <p:nvPr/>
        </p:nvSpPr>
        <p:spPr>
          <a:xfrm>
            <a:off x="1258920" y="333360"/>
            <a:ext cx="78850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лфавит мощностью 8 знаков можно закодировать на машинном языке с помощью трёх символов двоичного алфав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139"/>
          <p:cNvSpPr/>
          <p:nvPr/>
        </p:nvSpPr>
        <p:spPr>
          <a:xfrm>
            <a:off x="179280" y="4292640"/>
            <a:ext cx="8713800" cy="18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Следовательно, каждый символ восьмизначного алфавита весит 3 би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41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142"/>
          <p:cNvSpPr/>
          <p:nvPr/>
        </p:nvSpPr>
        <p:spPr>
          <a:xfrm>
            <a:off x="8028000" y="638172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11444" y="3837"/>
                </a:moveTo>
                <a:lnTo>
                  <a:pt x="14021" y="6448"/>
                </a:ln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lnTo>
                  <a:pt x="18407" y="10800"/>
                </a:lnTo>
                <a:lnTo>
                  <a:pt x="16754" y="10800"/>
                </a:lnTo>
                <a:lnTo>
                  <a:pt x="16754" y="17989"/>
                </a:lnTo>
                <a:lnTo>
                  <a:pt x="6135" y="17989"/>
                </a:lnTo>
                <a:lnTo>
                  <a:pt x="6135" y="10800"/>
                </a:lnTo>
                <a:lnTo>
                  <a:pt x="4481" y="10800"/>
                </a:lnTo>
                <a:close/>
              </a:path>
              <a:path fill="darkenLess" w="22889" h="21600">
                <a:moveTo>
                  <a:pt x="14021" y="6448"/>
                </a:move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close/>
              </a:path>
              <a:path fill="darkenLess" w="22889" h="21600">
                <a:moveTo>
                  <a:pt x="10522" y="14299"/>
                </a:moveTo>
                <a:lnTo>
                  <a:pt x="12367" y="14299"/>
                </a:lnTo>
                <a:lnTo>
                  <a:pt x="12367" y="17989"/>
                </a:lnTo>
                <a:lnTo>
                  <a:pt x="16754" y="17989"/>
                </a:lnTo>
                <a:lnTo>
                  <a:pt x="16754" y="10800"/>
                </a:lnTo>
                <a:lnTo>
                  <a:pt x="6135" y="10800"/>
                </a:lnTo>
                <a:lnTo>
                  <a:pt x="6135" y="17989"/>
                </a:lnTo>
                <a:lnTo>
                  <a:pt x="10522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1116000" y="189000"/>
            <a:ext cx="7848720" cy="32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лфавит из шестнадцати символов можно закодировать с помощью четырёхзначного двоичного к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ой объём информации содержат 3 символа 16 – символьного алфавит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24000" y="2924280"/>
            <a:ext cx="8496000" cy="34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 как каждый символ алфавита мощностью 16 знаков можно закодировать с помощью четырёхзначного двоичного кода, каждый символ исходного алфавита весит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бит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 как всего использовал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имвола алфавита мощностью 16 символов, следовательно: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∙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= 12 би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a5002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Arial"/>
                <a:ea typeface="Arial Unicode MS"/>
              </a:rPr>
              <a:t>Отв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объём информации записанный 3 знаками алфавита мощностью 16 символов равен 12 б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8" name="AutoShape 7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8028000" y="638172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11444" y="3837"/>
                </a:moveTo>
                <a:lnTo>
                  <a:pt x="14021" y="6448"/>
                </a:ln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lnTo>
                  <a:pt x="18407" y="10800"/>
                </a:lnTo>
                <a:lnTo>
                  <a:pt x="16754" y="10800"/>
                </a:lnTo>
                <a:lnTo>
                  <a:pt x="16754" y="17989"/>
                </a:lnTo>
                <a:lnTo>
                  <a:pt x="6135" y="17989"/>
                </a:lnTo>
                <a:lnTo>
                  <a:pt x="6135" y="10800"/>
                </a:lnTo>
                <a:lnTo>
                  <a:pt x="4481" y="10800"/>
                </a:lnTo>
                <a:close/>
              </a:path>
              <a:path fill="darkenLess" w="22889" h="21600">
                <a:moveTo>
                  <a:pt x="14021" y="6448"/>
                </a:move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close/>
              </a:path>
              <a:path fill="darkenLess" w="22889" h="21600">
                <a:moveTo>
                  <a:pt x="10522" y="14299"/>
                </a:moveTo>
                <a:lnTo>
                  <a:pt x="12367" y="14299"/>
                </a:lnTo>
                <a:lnTo>
                  <a:pt x="12367" y="17989"/>
                </a:lnTo>
                <a:lnTo>
                  <a:pt x="16754" y="17989"/>
                </a:lnTo>
                <a:lnTo>
                  <a:pt x="16754" y="10800"/>
                </a:lnTo>
                <a:lnTo>
                  <a:pt x="6135" y="10800"/>
                </a:lnTo>
                <a:lnTo>
                  <a:pt x="6135" y="17989"/>
                </a:lnTo>
                <a:lnTo>
                  <a:pt x="10522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539640" y="4365720"/>
            <a:ext cx="8280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50021"/>
                </a:solidFill>
                <a:uFillTx/>
                <a:latin typeface="Tahoma"/>
              </a:rPr>
              <a:t>Следовательн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ационный вес каждого символа, выраженный в битах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и мощность алфавита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вязаны между собой формулой: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= 2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258920" y="26028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пишем таблицу соответствия мощности алфавита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количеством знаков в коде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рядностью двоичного к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116000" y="1989000"/>
          <a:ext cx="7128000" cy="1295640"/>
        </p:xfrm>
        <a:graphic>
          <a:graphicData uri="http://schemas.openxmlformats.org/drawingml/2006/table">
            <a:tbl>
              <a:tblPr/>
              <a:tblGrid>
                <a:gridCol w="1425600"/>
                <a:gridCol w="1425600"/>
                <a:gridCol w="1425600"/>
                <a:gridCol w="1425600"/>
                <a:gridCol w="142560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б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би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и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би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3" name="Text Box 32"/>
          <p:cNvSpPr/>
          <p:nvPr/>
        </p:nvSpPr>
        <p:spPr>
          <a:xfrm>
            <a:off x="324000" y="357336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метим, что   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  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    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8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 2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ahoma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   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16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Line 35"/>
          <p:cNvSpPr/>
          <p:nvPr/>
        </p:nvSpPr>
        <p:spPr>
          <a:xfrm flipH="1">
            <a:off x="2842920" y="2421000"/>
            <a:ext cx="360360" cy="122400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Line 36"/>
          <p:cNvSpPr/>
          <p:nvPr/>
        </p:nvSpPr>
        <p:spPr>
          <a:xfrm>
            <a:off x="2987640" y="2997360"/>
            <a:ext cx="576360" cy="647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Line 37"/>
          <p:cNvSpPr/>
          <p:nvPr/>
        </p:nvSpPr>
        <p:spPr>
          <a:xfrm flipH="1">
            <a:off x="4211280" y="2349360"/>
            <a:ext cx="360360" cy="129564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38"/>
          <p:cNvSpPr/>
          <p:nvPr/>
        </p:nvSpPr>
        <p:spPr>
          <a:xfrm>
            <a:off x="4284720" y="3068640"/>
            <a:ext cx="574560" cy="57636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39"/>
          <p:cNvSpPr/>
          <p:nvPr/>
        </p:nvSpPr>
        <p:spPr>
          <a:xfrm flipH="1">
            <a:off x="5651640" y="2421000"/>
            <a:ext cx="288720" cy="122400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40"/>
          <p:cNvSpPr/>
          <p:nvPr/>
        </p:nvSpPr>
        <p:spPr>
          <a:xfrm>
            <a:off x="5724360" y="3068640"/>
            <a:ext cx="648000" cy="57636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41"/>
          <p:cNvSpPr/>
          <p:nvPr/>
        </p:nvSpPr>
        <p:spPr>
          <a:xfrm flipH="1">
            <a:off x="7164360" y="2421000"/>
            <a:ext cx="216000" cy="122400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42"/>
          <p:cNvSpPr/>
          <p:nvPr/>
        </p:nvSpPr>
        <p:spPr>
          <a:xfrm>
            <a:off x="7164360" y="2997360"/>
            <a:ext cx="792360" cy="64764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43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AutoShape 44"/>
          <p:cNvSpPr/>
          <p:nvPr/>
        </p:nvSpPr>
        <p:spPr>
          <a:xfrm>
            <a:off x="8028000" y="638172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11444" y="3837"/>
                </a:moveTo>
                <a:lnTo>
                  <a:pt x="14021" y="6448"/>
                </a:ln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lnTo>
                  <a:pt x="18407" y="10800"/>
                </a:lnTo>
                <a:lnTo>
                  <a:pt x="16754" y="10800"/>
                </a:lnTo>
                <a:lnTo>
                  <a:pt x="16754" y="17989"/>
                </a:lnTo>
                <a:lnTo>
                  <a:pt x="6135" y="17989"/>
                </a:lnTo>
                <a:lnTo>
                  <a:pt x="6135" y="10800"/>
                </a:lnTo>
                <a:lnTo>
                  <a:pt x="4481" y="10800"/>
                </a:lnTo>
                <a:close/>
              </a:path>
              <a:path fill="darkenLess" w="22889" h="21600">
                <a:moveTo>
                  <a:pt x="14021" y="6448"/>
                </a:move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close/>
              </a:path>
              <a:path fill="darkenLess" w="22889" h="21600">
                <a:moveTo>
                  <a:pt x="10522" y="14299"/>
                </a:moveTo>
                <a:lnTo>
                  <a:pt x="12367" y="14299"/>
                </a:lnTo>
                <a:lnTo>
                  <a:pt x="12367" y="17989"/>
                </a:lnTo>
                <a:lnTo>
                  <a:pt x="16754" y="17989"/>
                </a:lnTo>
                <a:lnTo>
                  <a:pt x="16754" y="10800"/>
                </a:lnTo>
                <a:lnTo>
                  <a:pt x="6135" y="10800"/>
                </a:lnTo>
                <a:lnTo>
                  <a:pt x="6135" y="17989"/>
                </a:lnTo>
                <a:lnTo>
                  <a:pt x="10522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1258920" y="26028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258920" y="189000"/>
            <a:ext cx="7885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оспользуемся формулой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= 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ahoma"/>
              </a:rPr>
              <a:t>b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 узнаем мощность алфавита, в зависимости от объёма информации, содержащегося в одном символе данного алфави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*Используйте калькулято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30"/>
          <p:cNvSpPr/>
          <p:nvPr/>
        </p:nvSpPr>
        <p:spPr>
          <a:xfrm>
            <a:off x="7883640" y="3544920"/>
            <a:ext cx="100332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0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29"/>
          <p:cNvSpPr/>
          <p:nvPr/>
        </p:nvSpPr>
        <p:spPr>
          <a:xfrm>
            <a:off x="7113600" y="3544920"/>
            <a:ext cx="77004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28"/>
          <p:cNvSpPr/>
          <p:nvPr/>
        </p:nvSpPr>
        <p:spPr>
          <a:xfrm>
            <a:off x="6343560" y="3544920"/>
            <a:ext cx="77004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7"/>
          <p:cNvSpPr/>
          <p:nvPr/>
        </p:nvSpPr>
        <p:spPr>
          <a:xfrm>
            <a:off x="5573880" y="3544920"/>
            <a:ext cx="76968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5046840" y="3544920"/>
            <a:ext cx="52704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4519440" y="3544920"/>
            <a:ext cx="52740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4"/>
          <p:cNvSpPr/>
          <p:nvPr/>
        </p:nvSpPr>
        <p:spPr>
          <a:xfrm>
            <a:off x="3992400" y="3544920"/>
            <a:ext cx="52704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3465360" y="3544920"/>
            <a:ext cx="52704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2938320" y="3544920"/>
            <a:ext cx="52704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2411280" y="3544920"/>
            <a:ext cx="52704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20"/>
          <p:cNvSpPr/>
          <p:nvPr/>
        </p:nvSpPr>
        <p:spPr>
          <a:xfrm>
            <a:off x="179280" y="3544920"/>
            <a:ext cx="223200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щность алфави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7883640" y="2492280"/>
            <a:ext cx="100332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7113600" y="2492280"/>
            <a:ext cx="77004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15"/>
          <p:cNvSpPr/>
          <p:nvPr/>
        </p:nvSpPr>
        <p:spPr>
          <a:xfrm>
            <a:off x="6343560" y="2492280"/>
            <a:ext cx="77004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5573880" y="2492280"/>
            <a:ext cx="76968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5046840" y="2492280"/>
            <a:ext cx="52704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4519440" y="2492280"/>
            <a:ext cx="52740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3992400" y="2492280"/>
            <a:ext cx="52704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3465360" y="2492280"/>
            <a:ext cx="52704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2938320" y="2492280"/>
            <a:ext cx="52704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2411280" y="2492280"/>
            <a:ext cx="52704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179280" y="2492280"/>
            <a:ext cx="223200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личество бит в одном символе алфави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33"/>
          <p:cNvSpPr/>
          <p:nvPr/>
        </p:nvSpPr>
        <p:spPr>
          <a:xfrm>
            <a:off x="179280" y="2492280"/>
            <a:ext cx="8707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Line 34"/>
          <p:cNvSpPr/>
          <p:nvPr/>
        </p:nvSpPr>
        <p:spPr>
          <a:xfrm>
            <a:off x="179280" y="3544920"/>
            <a:ext cx="870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Line 35"/>
          <p:cNvSpPr/>
          <p:nvPr/>
        </p:nvSpPr>
        <p:spPr>
          <a:xfrm>
            <a:off x="179280" y="4595760"/>
            <a:ext cx="8707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Line 36"/>
          <p:cNvSpPr/>
          <p:nvPr/>
        </p:nvSpPr>
        <p:spPr>
          <a:xfrm>
            <a:off x="179280" y="2492280"/>
            <a:ext cx="0" cy="2103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Line 37"/>
          <p:cNvSpPr/>
          <p:nvPr/>
        </p:nvSpPr>
        <p:spPr>
          <a:xfrm>
            <a:off x="241128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Line 38"/>
          <p:cNvSpPr/>
          <p:nvPr/>
        </p:nvSpPr>
        <p:spPr>
          <a:xfrm>
            <a:off x="293832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Line 39"/>
          <p:cNvSpPr/>
          <p:nvPr/>
        </p:nvSpPr>
        <p:spPr>
          <a:xfrm>
            <a:off x="346536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40"/>
          <p:cNvSpPr/>
          <p:nvPr/>
        </p:nvSpPr>
        <p:spPr>
          <a:xfrm>
            <a:off x="399240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41"/>
          <p:cNvSpPr/>
          <p:nvPr/>
        </p:nvSpPr>
        <p:spPr>
          <a:xfrm>
            <a:off x="451944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Line 42"/>
          <p:cNvSpPr/>
          <p:nvPr/>
        </p:nvSpPr>
        <p:spPr>
          <a:xfrm>
            <a:off x="504684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43"/>
          <p:cNvSpPr/>
          <p:nvPr/>
        </p:nvSpPr>
        <p:spPr>
          <a:xfrm>
            <a:off x="557388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44"/>
          <p:cNvSpPr/>
          <p:nvPr/>
        </p:nvSpPr>
        <p:spPr>
          <a:xfrm>
            <a:off x="634356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45"/>
          <p:cNvSpPr/>
          <p:nvPr/>
        </p:nvSpPr>
        <p:spPr>
          <a:xfrm>
            <a:off x="711360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Line 46"/>
          <p:cNvSpPr/>
          <p:nvPr/>
        </p:nvSpPr>
        <p:spPr>
          <a:xfrm>
            <a:off x="788364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Line 49"/>
          <p:cNvSpPr/>
          <p:nvPr/>
        </p:nvSpPr>
        <p:spPr>
          <a:xfrm>
            <a:off x="8886960" y="2492280"/>
            <a:ext cx="0" cy="2103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100"/>
          <p:cNvSpPr/>
          <p:nvPr/>
        </p:nvSpPr>
        <p:spPr>
          <a:xfrm>
            <a:off x="250920" y="4941720"/>
            <a:ext cx="8642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сли необходимо найти количество информации содержащееся в одном символе алфавита заданной мощности используют формулу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 = log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AutoShape 101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AutoShape 102"/>
          <p:cNvSpPr/>
          <p:nvPr/>
        </p:nvSpPr>
        <p:spPr>
          <a:xfrm>
            <a:off x="8028000" y="638172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11444" y="3837"/>
                </a:moveTo>
                <a:lnTo>
                  <a:pt x="14021" y="6448"/>
                </a:ln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lnTo>
                  <a:pt x="18407" y="10800"/>
                </a:lnTo>
                <a:lnTo>
                  <a:pt x="16754" y="10800"/>
                </a:lnTo>
                <a:lnTo>
                  <a:pt x="16754" y="17989"/>
                </a:lnTo>
                <a:lnTo>
                  <a:pt x="6135" y="17989"/>
                </a:lnTo>
                <a:lnTo>
                  <a:pt x="6135" y="10800"/>
                </a:lnTo>
                <a:lnTo>
                  <a:pt x="4481" y="10800"/>
                </a:lnTo>
                <a:close/>
              </a:path>
              <a:path fill="darkenLess" w="22889" h="21600">
                <a:moveTo>
                  <a:pt x="14021" y="6448"/>
                </a:move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close/>
              </a:path>
              <a:path fill="darkenLess" w="22889" h="21600">
                <a:moveTo>
                  <a:pt x="10522" y="14299"/>
                </a:moveTo>
                <a:lnTo>
                  <a:pt x="12367" y="14299"/>
                </a:lnTo>
                <a:lnTo>
                  <a:pt x="12367" y="17989"/>
                </a:lnTo>
                <a:lnTo>
                  <a:pt x="16754" y="17989"/>
                </a:lnTo>
                <a:lnTo>
                  <a:pt x="16754" y="10800"/>
                </a:lnTo>
                <a:lnTo>
                  <a:pt x="6135" y="10800"/>
                </a:lnTo>
                <a:lnTo>
                  <a:pt x="6135" y="17989"/>
                </a:lnTo>
                <a:lnTo>
                  <a:pt x="10522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1332000" y="692280"/>
            <a:ext cx="7488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лфавит из которого составляется на компьютере текст (документ) состоит из 256 символ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24000" y="1844640"/>
            <a:ext cx="8640720" cy="24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т алфавит содержит символы: строчные и прописные латинские и русские буквы, цифры, знаки арифметических операций, всевозможные скобки, знаки препинания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324000" y="342900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формулы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</a:rPr>
              <a:t>b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едует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256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lang="ru-RU" sz="3200" spc="-1" strike="noStrike" baseline="30000">
                <a:solidFill>
                  <a:srgbClr val="ff0000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357120" y="4071960"/>
            <a:ext cx="8353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Значит, каждый символ алфавита используемого в компьютере для печати документов веси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ahoma"/>
              </a:rPr>
              <a:t>8 бит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42960" y="5072040"/>
            <a:ext cx="792144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Эту величину приняли так же за единицу измерения информации и дали название бай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8 бит = 1 бай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AutoShape 9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AutoShape 10"/>
          <p:cNvSpPr/>
          <p:nvPr/>
        </p:nvSpPr>
        <p:spPr>
          <a:xfrm>
            <a:off x="8028000" y="638172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11444" y="3837"/>
                </a:moveTo>
                <a:lnTo>
                  <a:pt x="14021" y="6448"/>
                </a:ln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lnTo>
                  <a:pt x="18407" y="10800"/>
                </a:lnTo>
                <a:lnTo>
                  <a:pt x="16754" y="10800"/>
                </a:lnTo>
                <a:lnTo>
                  <a:pt x="16754" y="17989"/>
                </a:lnTo>
                <a:lnTo>
                  <a:pt x="6135" y="17989"/>
                </a:lnTo>
                <a:lnTo>
                  <a:pt x="6135" y="10800"/>
                </a:lnTo>
                <a:lnTo>
                  <a:pt x="4481" y="10800"/>
                </a:lnTo>
                <a:close/>
              </a:path>
              <a:path fill="darkenLess" w="22889" h="21600">
                <a:moveTo>
                  <a:pt x="14021" y="6448"/>
                </a:move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close/>
              </a:path>
              <a:path fill="darkenLess" w="22889" h="21600">
                <a:moveTo>
                  <a:pt x="10522" y="14299"/>
                </a:moveTo>
                <a:lnTo>
                  <a:pt x="12367" y="14299"/>
                </a:lnTo>
                <a:lnTo>
                  <a:pt x="12367" y="17989"/>
                </a:lnTo>
                <a:lnTo>
                  <a:pt x="16754" y="17989"/>
                </a:lnTo>
                <a:lnTo>
                  <a:pt x="16754" y="10800"/>
                </a:lnTo>
                <a:lnTo>
                  <a:pt x="6135" y="10800"/>
                </a:lnTo>
                <a:lnTo>
                  <a:pt x="6135" y="17989"/>
                </a:lnTo>
                <a:lnTo>
                  <a:pt x="10522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4"/>
          <p:cNvSpPr/>
          <p:nvPr/>
        </p:nvSpPr>
        <p:spPr>
          <a:xfrm>
            <a:off x="1258920" y="260280"/>
            <a:ext cx="7489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Tahoma"/>
              </a:rPr>
              <a:t>Пример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татья содержит 30 страниц, на каждой странице - 40 строк, в каждой строке 50 символов. Какой объём информации содержит стать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900000" y="1844640"/>
            <a:ext cx="7993080" cy="47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На каждой странице 50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40 = 2000 символ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2) во всей статье 2000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30 = 60000 символ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3) т. к. вес каждого символа равен 1 байту, следовательно, информационный объём всей статьи 60000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1 = 60000 бай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ли 60000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8 = 480000 б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 видно из задачи байт «мелкая» единица измерения информационного объёма текста, поэтому для измерения больших объёмов информации используются более крупные единиц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AutoShape 6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8028000" y="638172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11444" y="3837"/>
                </a:moveTo>
                <a:lnTo>
                  <a:pt x="14021" y="6448"/>
                </a:ln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lnTo>
                  <a:pt x="18407" y="10800"/>
                </a:lnTo>
                <a:lnTo>
                  <a:pt x="16754" y="10800"/>
                </a:lnTo>
                <a:lnTo>
                  <a:pt x="16754" y="17989"/>
                </a:lnTo>
                <a:lnTo>
                  <a:pt x="6135" y="17989"/>
                </a:lnTo>
                <a:lnTo>
                  <a:pt x="6135" y="10800"/>
                </a:lnTo>
                <a:lnTo>
                  <a:pt x="4481" y="10800"/>
                </a:lnTo>
                <a:close/>
              </a:path>
              <a:path fill="darkenLess" w="22889" h="21600">
                <a:moveTo>
                  <a:pt x="14021" y="6448"/>
                </a:move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close/>
              </a:path>
              <a:path fill="darkenLess" w="22889" h="21600">
                <a:moveTo>
                  <a:pt x="10522" y="14299"/>
                </a:moveTo>
                <a:lnTo>
                  <a:pt x="12367" y="14299"/>
                </a:lnTo>
                <a:lnTo>
                  <a:pt x="12367" y="17989"/>
                </a:lnTo>
                <a:lnTo>
                  <a:pt x="16754" y="17989"/>
                </a:lnTo>
                <a:lnTo>
                  <a:pt x="16754" y="10800"/>
                </a:lnTo>
                <a:lnTo>
                  <a:pt x="6135" y="10800"/>
                </a:lnTo>
                <a:lnTo>
                  <a:pt x="6135" y="17989"/>
                </a:lnTo>
                <a:lnTo>
                  <a:pt x="10522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260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Оглав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Как можно измерить количество информаци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Алфавитный подход к измерению информ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4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468360" y="1989000"/>
            <a:ext cx="828036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1 килобай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= 1 Кб = 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айт = </a:t>
            </a: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1024 бай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1 мегабай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= 1 Мб = 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б = </a:t>
            </a: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1024 К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1 гигабай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= 1 Гб = 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б = </a:t>
            </a: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1024 М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6000" y="404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Единицы измерения информационного объём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428760" y="4714920"/>
            <a:ext cx="835164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чит, если перевести результат предыдущей задачи в более крупные единицы измерения получим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0000 бай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≈ 58,59375 К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60000 бай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≈ 0,057 М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AutoShape 7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AutoShape 8"/>
          <p:cNvSpPr/>
          <p:nvPr/>
        </p:nvSpPr>
        <p:spPr>
          <a:xfrm>
            <a:off x="8028000" y="638172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11444" y="3837"/>
                </a:moveTo>
                <a:lnTo>
                  <a:pt x="14021" y="6448"/>
                </a:ln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lnTo>
                  <a:pt x="18407" y="10800"/>
                </a:lnTo>
                <a:lnTo>
                  <a:pt x="16754" y="10800"/>
                </a:lnTo>
                <a:lnTo>
                  <a:pt x="16754" y="17989"/>
                </a:lnTo>
                <a:lnTo>
                  <a:pt x="6135" y="17989"/>
                </a:lnTo>
                <a:lnTo>
                  <a:pt x="6135" y="10800"/>
                </a:lnTo>
                <a:lnTo>
                  <a:pt x="4481" y="10800"/>
                </a:lnTo>
                <a:close/>
              </a:path>
              <a:path fill="darkenLess" w="22889" h="21600">
                <a:moveTo>
                  <a:pt x="14021" y="6448"/>
                </a:move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close/>
              </a:path>
              <a:path fill="darkenLess" w="22889" h="21600">
                <a:moveTo>
                  <a:pt x="10522" y="14299"/>
                </a:moveTo>
                <a:lnTo>
                  <a:pt x="12367" y="14299"/>
                </a:lnTo>
                <a:lnTo>
                  <a:pt x="12367" y="17989"/>
                </a:lnTo>
                <a:lnTo>
                  <a:pt x="16754" y="17989"/>
                </a:lnTo>
                <a:lnTo>
                  <a:pt x="16754" y="10800"/>
                </a:lnTo>
                <a:lnTo>
                  <a:pt x="6135" y="10800"/>
                </a:lnTo>
                <a:lnTo>
                  <a:pt x="6135" y="17989"/>
                </a:lnTo>
                <a:lnTo>
                  <a:pt x="10522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428760" y="2143080"/>
            <a:ext cx="853596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62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Процесс познания окружающего мира приводит к накоплению информации в форме знаний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562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Как же узнать много получено информации или нет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562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Необходимо измерить объём информации. А как это сделать мы рассмотрим дальше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AutoShape 5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utoShape 6">
            <a:hlinkClick r:id="rId4" action="ppaction://hlinksldjump"/>
          </p:cNvPr>
          <p:cNvSpPr/>
          <p:nvPr/>
        </p:nvSpPr>
        <p:spPr>
          <a:xfrm>
            <a:off x="8028000" y="638172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11444" y="3837"/>
                </a:moveTo>
                <a:lnTo>
                  <a:pt x="14021" y="6448"/>
                </a:ln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lnTo>
                  <a:pt x="18407" y="10800"/>
                </a:lnTo>
                <a:lnTo>
                  <a:pt x="16754" y="10800"/>
                </a:lnTo>
                <a:lnTo>
                  <a:pt x="16754" y="17989"/>
                </a:lnTo>
                <a:lnTo>
                  <a:pt x="6135" y="17989"/>
                </a:lnTo>
                <a:lnTo>
                  <a:pt x="6135" y="10800"/>
                </a:lnTo>
                <a:lnTo>
                  <a:pt x="4481" y="10800"/>
                </a:lnTo>
                <a:close/>
              </a:path>
              <a:path fill="darkenLess" w="22889" h="21600">
                <a:moveTo>
                  <a:pt x="14021" y="6448"/>
                </a:move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close/>
              </a:path>
              <a:path fill="darkenLess" w="22889" h="21600">
                <a:moveTo>
                  <a:pt x="10522" y="14299"/>
                </a:moveTo>
                <a:lnTo>
                  <a:pt x="12367" y="14299"/>
                </a:lnTo>
                <a:lnTo>
                  <a:pt x="12367" y="17989"/>
                </a:lnTo>
                <a:lnTo>
                  <a:pt x="16754" y="17989"/>
                </a:lnTo>
                <a:lnTo>
                  <a:pt x="16754" y="10800"/>
                </a:lnTo>
                <a:lnTo>
                  <a:pt x="6135" y="10800"/>
                </a:lnTo>
                <a:lnTo>
                  <a:pt x="6135" y="17989"/>
                </a:lnTo>
                <a:lnTo>
                  <a:pt x="10522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9"/>
          <p:cNvGrpSpPr/>
          <p:nvPr/>
        </p:nvGrpSpPr>
        <p:grpSpPr>
          <a:xfrm>
            <a:off x="5796000" y="5000760"/>
            <a:ext cx="3347640" cy="1557000"/>
            <a:chOff x="5796000" y="5000760"/>
            <a:chExt cx="3347640" cy="1557000"/>
          </a:xfrm>
        </p:grpSpPr>
        <p:sp>
          <p:nvSpPr>
            <p:cNvPr id="108" name="Oval 8"/>
            <p:cNvSpPr/>
            <p:nvPr/>
          </p:nvSpPr>
          <p:spPr>
            <a:xfrm>
              <a:off x="5796000" y="5000760"/>
              <a:ext cx="3347640" cy="15570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Text Box 7"/>
            <p:cNvSpPr/>
            <p:nvPr/>
          </p:nvSpPr>
          <p:spPr>
            <a:xfrm>
              <a:off x="5796000" y="5519160"/>
              <a:ext cx="186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Незнани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" name="Text Box 4"/>
          <p:cNvSpPr/>
          <p:nvPr/>
        </p:nvSpPr>
        <p:spPr>
          <a:xfrm>
            <a:off x="1285920" y="1785960"/>
            <a:ext cx="7128000" cy="29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лучение новой информации приводит к расширению знаний или, как иначе можно сказать, к уменьшению неопределённости знан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сли некоторое сообщение приводит к уменьшению неопределённости нашего знания, то можно сказать, что такое знание содержит информацию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Group 11"/>
          <p:cNvGrpSpPr/>
          <p:nvPr/>
        </p:nvGrpSpPr>
        <p:grpSpPr>
          <a:xfrm>
            <a:off x="0" y="5000760"/>
            <a:ext cx="3240000" cy="1557000"/>
            <a:chOff x="0" y="5000760"/>
            <a:chExt cx="3240000" cy="1557000"/>
          </a:xfrm>
        </p:grpSpPr>
        <p:sp>
          <p:nvSpPr>
            <p:cNvPr id="112" name="Oval 12"/>
            <p:cNvSpPr/>
            <p:nvPr/>
          </p:nvSpPr>
          <p:spPr>
            <a:xfrm>
              <a:off x="0" y="5000760"/>
              <a:ext cx="3240000" cy="15570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0" y="551916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Незнание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" name="Group 14"/>
          <p:cNvGrpSpPr/>
          <p:nvPr/>
        </p:nvGrpSpPr>
        <p:grpSpPr>
          <a:xfrm>
            <a:off x="1643040" y="5214960"/>
            <a:ext cx="1441440" cy="1109520"/>
            <a:chOff x="1643040" y="5214960"/>
            <a:chExt cx="1441440" cy="1109520"/>
          </a:xfrm>
        </p:grpSpPr>
        <p:sp>
          <p:nvSpPr>
            <p:cNvPr id="115" name="Oval 15"/>
            <p:cNvSpPr/>
            <p:nvPr/>
          </p:nvSpPr>
          <p:spPr>
            <a:xfrm>
              <a:off x="1643040" y="5214960"/>
              <a:ext cx="1441440" cy="110952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1643040" y="55414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Знание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7" name="Group 20"/>
          <p:cNvGrpSpPr/>
          <p:nvPr/>
        </p:nvGrpSpPr>
        <p:grpSpPr>
          <a:xfrm>
            <a:off x="3357720" y="5357880"/>
            <a:ext cx="2374560" cy="863640"/>
            <a:chOff x="3357720" y="5357880"/>
            <a:chExt cx="2374560" cy="863640"/>
          </a:xfrm>
        </p:grpSpPr>
        <p:sp>
          <p:nvSpPr>
            <p:cNvPr id="118" name="AutoShape 17"/>
            <p:cNvSpPr/>
            <p:nvPr/>
          </p:nvSpPr>
          <p:spPr>
            <a:xfrm>
              <a:off x="3357720" y="5357880"/>
              <a:ext cx="2374560" cy="863640"/>
            </a:xfrm>
            <a:prstGeom prst="rightArrow">
              <a:avLst>
                <a:gd name="adj1" fmla="val 50000"/>
                <a:gd name="adj2" fmla="val 6873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Text Box 18"/>
            <p:cNvSpPr/>
            <p:nvPr/>
          </p:nvSpPr>
          <p:spPr>
            <a:xfrm>
              <a:off x="3430440" y="5573520"/>
              <a:ext cx="20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Информация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0" name="AutoShape 19">
            <a:hlinkClick r:id="" action="ppaction://hlinkshowjump?jump=previousslide"/>
          </p:cNvPr>
          <p:cNvSpPr/>
          <p:nvPr/>
        </p:nvSpPr>
        <p:spPr>
          <a:xfrm>
            <a:off x="8604360" y="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Group 21"/>
          <p:cNvGrpSpPr/>
          <p:nvPr/>
        </p:nvGrpSpPr>
        <p:grpSpPr>
          <a:xfrm>
            <a:off x="7286760" y="5214960"/>
            <a:ext cx="1441440" cy="1109520"/>
            <a:chOff x="7286760" y="5214960"/>
            <a:chExt cx="1441440" cy="1109520"/>
          </a:xfrm>
        </p:grpSpPr>
        <p:sp>
          <p:nvSpPr>
            <p:cNvPr id="122" name="Oval 22"/>
            <p:cNvSpPr/>
            <p:nvPr/>
          </p:nvSpPr>
          <p:spPr>
            <a:xfrm>
              <a:off x="7286760" y="5214960"/>
              <a:ext cx="1441440" cy="110952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Text Box 23"/>
            <p:cNvSpPr/>
            <p:nvPr/>
          </p:nvSpPr>
          <p:spPr>
            <a:xfrm>
              <a:off x="7286760" y="55414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Знание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4" name="AutoShape 24">
            <a:hlinkClick r:id="rId3" action="ppaction://hlinksldjump"/>
          </p:cNvPr>
          <p:cNvSpPr/>
          <p:nvPr/>
        </p:nvSpPr>
        <p:spPr>
          <a:xfrm>
            <a:off x="8028000" y="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11444" y="3837"/>
                </a:moveTo>
                <a:lnTo>
                  <a:pt x="14021" y="6448"/>
                </a:ln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lnTo>
                  <a:pt x="18407" y="10800"/>
                </a:lnTo>
                <a:lnTo>
                  <a:pt x="16754" y="10800"/>
                </a:lnTo>
                <a:lnTo>
                  <a:pt x="16754" y="17989"/>
                </a:lnTo>
                <a:lnTo>
                  <a:pt x="6135" y="17989"/>
                </a:lnTo>
                <a:lnTo>
                  <a:pt x="6135" y="10800"/>
                </a:lnTo>
                <a:lnTo>
                  <a:pt x="4481" y="10800"/>
                </a:lnTo>
                <a:close/>
              </a:path>
              <a:path fill="darkenLess" w="22889" h="21600">
                <a:moveTo>
                  <a:pt x="14021" y="6448"/>
                </a:move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close/>
              </a:path>
              <a:path fill="darkenLess" w="22889" h="21600">
                <a:moveTo>
                  <a:pt x="10522" y="14299"/>
                </a:moveTo>
                <a:lnTo>
                  <a:pt x="12367" y="14299"/>
                </a:lnTo>
                <a:lnTo>
                  <a:pt x="12367" y="17989"/>
                </a:lnTo>
                <a:lnTo>
                  <a:pt x="16754" y="17989"/>
                </a:lnTo>
                <a:lnTo>
                  <a:pt x="16754" y="10800"/>
                </a:lnTo>
                <a:lnTo>
                  <a:pt x="6135" y="10800"/>
                </a:lnTo>
                <a:lnTo>
                  <a:pt x="6135" y="17989"/>
                </a:lnTo>
                <a:lnTo>
                  <a:pt x="10522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900000" y="333360"/>
            <a:ext cx="777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Как можно измерить количество информации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5" descr="j0232133"/>
          <p:cNvPicPr/>
          <p:nvPr/>
        </p:nvPicPr>
        <p:blipFill>
          <a:blip r:embed="rId1"/>
          <a:stretch/>
        </p:blipFill>
        <p:spPr>
          <a:xfrm>
            <a:off x="2843280" y="2349360"/>
            <a:ext cx="3701880" cy="3799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6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AutoShape 7">
            <a:hlinkClick r:id="rId2" action="ppaction://hlinksldjump"/>
          </p:cNvPr>
          <p:cNvSpPr/>
          <p:nvPr/>
        </p:nvSpPr>
        <p:spPr>
          <a:xfrm>
            <a:off x="8028000" y="638172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11444" y="3837"/>
                </a:moveTo>
                <a:lnTo>
                  <a:pt x="14021" y="6448"/>
                </a:ln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lnTo>
                  <a:pt x="18407" y="10800"/>
                </a:lnTo>
                <a:lnTo>
                  <a:pt x="16754" y="10800"/>
                </a:lnTo>
                <a:lnTo>
                  <a:pt x="16754" y="17989"/>
                </a:lnTo>
                <a:lnTo>
                  <a:pt x="6135" y="17989"/>
                </a:lnTo>
                <a:lnTo>
                  <a:pt x="6135" y="10800"/>
                </a:lnTo>
                <a:lnTo>
                  <a:pt x="4481" y="10800"/>
                </a:lnTo>
                <a:close/>
              </a:path>
              <a:path fill="darkenLess" w="22889" h="21600">
                <a:moveTo>
                  <a:pt x="14021" y="6448"/>
                </a:move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close/>
              </a:path>
              <a:path fill="darkenLess" w="22889" h="21600">
                <a:moveTo>
                  <a:pt x="10522" y="14299"/>
                </a:moveTo>
                <a:lnTo>
                  <a:pt x="12367" y="14299"/>
                </a:lnTo>
                <a:lnTo>
                  <a:pt x="12367" y="17989"/>
                </a:lnTo>
                <a:lnTo>
                  <a:pt x="16754" y="17989"/>
                </a:lnTo>
                <a:lnTo>
                  <a:pt x="16754" y="10800"/>
                </a:lnTo>
                <a:lnTo>
                  <a:pt x="6135" y="10800"/>
                </a:lnTo>
                <a:lnTo>
                  <a:pt x="6135" y="17989"/>
                </a:lnTo>
                <a:lnTo>
                  <a:pt x="10522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366920" y="476280"/>
            <a:ext cx="777708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измерения величин существуют эталонные единицы измер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55640" y="2205000"/>
            <a:ext cx="77770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ahoma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стояние измеряют в миллиметрах, сантиметрах, дециметрах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ссу измеряют в граммах, килограммах, тоннах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ремя измеряют в секундах, минутах, сутках, годах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50920" y="530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Следовательно, для измерения информации должна быть введена своя эталонная единиц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utoShape 7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utoShape 8">
            <a:hlinkClick r:id="rId4" action="ppaction://hlinksldjump"/>
          </p:cNvPr>
          <p:cNvSpPr/>
          <p:nvPr/>
        </p:nvSpPr>
        <p:spPr>
          <a:xfrm>
            <a:off x="8028000" y="638172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11444" y="3837"/>
                </a:moveTo>
                <a:lnTo>
                  <a:pt x="14021" y="6448"/>
                </a:ln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lnTo>
                  <a:pt x="18407" y="10800"/>
                </a:lnTo>
                <a:lnTo>
                  <a:pt x="16754" y="10800"/>
                </a:lnTo>
                <a:lnTo>
                  <a:pt x="16754" y="17989"/>
                </a:lnTo>
                <a:lnTo>
                  <a:pt x="6135" y="17989"/>
                </a:lnTo>
                <a:lnTo>
                  <a:pt x="6135" y="10800"/>
                </a:lnTo>
                <a:lnTo>
                  <a:pt x="4481" y="10800"/>
                </a:lnTo>
                <a:close/>
              </a:path>
              <a:path fill="darkenLess" w="22889" h="21600">
                <a:moveTo>
                  <a:pt x="14021" y="6448"/>
                </a:move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close/>
              </a:path>
              <a:path fill="darkenLess" w="22889" h="21600">
                <a:moveTo>
                  <a:pt x="10522" y="14299"/>
                </a:moveTo>
                <a:lnTo>
                  <a:pt x="12367" y="14299"/>
                </a:lnTo>
                <a:lnTo>
                  <a:pt x="12367" y="17989"/>
                </a:lnTo>
                <a:lnTo>
                  <a:pt x="16754" y="17989"/>
                </a:lnTo>
                <a:lnTo>
                  <a:pt x="16754" y="10800"/>
                </a:lnTo>
                <a:lnTo>
                  <a:pt x="6135" y="10800"/>
                </a:lnTo>
                <a:lnTo>
                  <a:pt x="6135" y="17989"/>
                </a:lnTo>
                <a:lnTo>
                  <a:pt x="10522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116000" y="333360"/>
            <a:ext cx="7488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Существует два подхода к измерению информ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755640" y="2060640"/>
            <a:ext cx="3600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Содержательный (вероятностный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788000" y="2133720"/>
            <a:ext cx="410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Алфавит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786200" y="2714760"/>
            <a:ext cx="414360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зволяет измерять информационный объём текста на любом языке (естественном или формальном) , при использовании данного подхода объём информаци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не связывают с содержание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текста, в данном случае, объём зависи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от информационного веса символ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357120" y="3286080"/>
            <a:ext cx="421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личество информаци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связывается с содержание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смыслом) полученного сообщения или с учётом вероятности событ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9"/>
          <p:cNvSpPr/>
          <p:nvPr/>
        </p:nvSpPr>
        <p:spPr>
          <a:xfrm flipH="1">
            <a:off x="2411280" y="1484280"/>
            <a:ext cx="648000" cy="6494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6516720" y="1557360"/>
            <a:ext cx="431640" cy="6476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11">
            <a:hlinkClick r:id="" action="ppaction://hlinkshowjump?jump=previousslide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7493"/>
                </a:moveTo>
                <a:lnTo>
                  <a:pt x="10901" y="7493"/>
                </a:lnTo>
                <a:lnTo>
                  <a:pt x="10901" y="12828"/>
                </a:lnTo>
                <a:cubicBezTo>
                  <a:pt x="10901" y="13751"/>
                  <a:pt x="11702" y="14482"/>
                  <a:pt x="12738" y="14482"/>
                </a:cubicBezTo>
                <a:lnTo>
                  <a:pt x="14400" y="14482"/>
                </a:lnTo>
                <a:cubicBezTo>
                  <a:pt x="15436" y="14482"/>
                  <a:pt x="16236" y="13751"/>
                  <a:pt x="16236" y="12828"/>
                </a:cubicBezTo>
                <a:lnTo>
                  <a:pt x="16236" y="7493"/>
                </a:lnTo>
                <a:lnTo>
                  <a:pt x="14400" y="7493"/>
                </a:lnTo>
                <a:lnTo>
                  <a:pt x="17908" y="3985"/>
                </a:lnTo>
                <a:lnTo>
                  <a:pt x="21581" y="7493"/>
                </a:lnTo>
                <a:lnTo>
                  <a:pt x="19744" y="7493"/>
                </a:lnTo>
                <a:lnTo>
                  <a:pt x="19744" y="12828"/>
                </a:lnTo>
                <a:cubicBezTo>
                  <a:pt x="19744" y="15596"/>
                  <a:pt x="17168" y="18155"/>
                  <a:pt x="14400" y="18155"/>
                </a:cubicBezTo>
                <a:lnTo>
                  <a:pt x="12738" y="18155"/>
                </a:lnTo>
                <a:cubicBezTo>
                  <a:pt x="9970" y="18155"/>
                  <a:pt x="7394" y="15596"/>
                  <a:pt x="7394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12">
            <a:hlinkClick r:id="rId3" action="ppaction://hlinksldjump"/>
          </p:cNvPr>
          <p:cNvSpPr/>
          <p:nvPr/>
        </p:nvSpPr>
        <p:spPr>
          <a:xfrm>
            <a:off x="802800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13469" y="3837"/>
                </a:moveTo>
                <a:lnTo>
                  <a:pt x="16045" y="6448"/>
                </a:lnTo>
                <a:lnTo>
                  <a:pt x="16045" y="4707"/>
                </a:lnTo>
                <a:lnTo>
                  <a:pt x="17821" y="4707"/>
                </a:lnTo>
                <a:lnTo>
                  <a:pt x="17821" y="8224"/>
                </a:lnTo>
                <a:lnTo>
                  <a:pt x="20432" y="10800"/>
                </a:lnTo>
                <a:lnTo>
                  <a:pt x="18778" y="10800"/>
                </a:lnTo>
                <a:lnTo>
                  <a:pt x="18778" y="17989"/>
                </a:lnTo>
                <a:lnTo>
                  <a:pt x="8160" y="17989"/>
                </a:lnTo>
                <a:lnTo>
                  <a:pt x="8160" y="10800"/>
                </a:lnTo>
                <a:lnTo>
                  <a:pt x="6506" y="10800"/>
                </a:lnTo>
                <a:close/>
              </a:path>
              <a:path fill="darkenLess" w="26938" h="21600">
                <a:moveTo>
                  <a:pt x="16045" y="6448"/>
                </a:moveTo>
                <a:lnTo>
                  <a:pt x="16045" y="4707"/>
                </a:lnTo>
                <a:lnTo>
                  <a:pt x="17821" y="4707"/>
                </a:lnTo>
                <a:lnTo>
                  <a:pt x="17821" y="8224"/>
                </a:lnTo>
                <a:close/>
              </a:path>
              <a:path fill="darkenLess" w="26938" h="21600">
                <a:moveTo>
                  <a:pt x="12546" y="14299"/>
                </a:moveTo>
                <a:lnTo>
                  <a:pt x="14391" y="14299"/>
                </a:lnTo>
                <a:lnTo>
                  <a:pt x="14391" y="17989"/>
                </a:lnTo>
                <a:lnTo>
                  <a:pt x="18778" y="17989"/>
                </a:lnTo>
                <a:lnTo>
                  <a:pt x="18778" y="10800"/>
                </a:lnTo>
                <a:lnTo>
                  <a:pt x="8160" y="10800"/>
                </a:lnTo>
                <a:lnTo>
                  <a:pt x="8160" y="17989"/>
                </a:lnTo>
                <a:lnTo>
                  <a:pt x="12546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Алфавитный подход к измерению информац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Picture 5" descr="j0232133"/>
          <p:cNvPicPr/>
          <p:nvPr/>
        </p:nvPicPr>
        <p:blipFill>
          <a:blip r:embed="rId1"/>
          <a:stretch/>
        </p:blipFill>
        <p:spPr>
          <a:xfrm>
            <a:off x="2843280" y="2349360"/>
            <a:ext cx="3701880" cy="379908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6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utoShape 7">
            <a:hlinkClick r:id="rId2" action="ppaction://hlinksldjump"/>
          </p:cNvPr>
          <p:cNvSpPr/>
          <p:nvPr/>
        </p:nvSpPr>
        <p:spPr>
          <a:xfrm>
            <a:off x="8028000" y="638172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11444" y="3837"/>
                </a:moveTo>
                <a:lnTo>
                  <a:pt x="14021" y="6448"/>
                </a:ln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lnTo>
                  <a:pt x="18407" y="10800"/>
                </a:lnTo>
                <a:lnTo>
                  <a:pt x="16754" y="10800"/>
                </a:lnTo>
                <a:lnTo>
                  <a:pt x="16754" y="17989"/>
                </a:lnTo>
                <a:lnTo>
                  <a:pt x="6135" y="17989"/>
                </a:lnTo>
                <a:lnTo>
                  <a:pt x="6135" y="10800"/>
                </a:lnTo>
                <a:lnTo>
                  <a:pt x="4481" y="10800"/>
                </a:lnTo>
                <a:close/>
              </a:path>
              <a:path fill="darkenLess" w="22889" h="21600">
                <a:moveTo>
                  <a:pt x="14021" y="6448"/>
                </a:move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close/>
              </a:path>
              <a:path fill="darkenLess" w="22889" h="21600">
                <a:moveTo>
                  <a:pt x="10522" y="14299"/>
                </a:moveTo>
                <a:lnTo>
                  <a:pt x="12367" y="14299"/>
                </a:lnTo>
                <a:lnTo>
                  <a:pt x="12367" y="17989"/>
                </a:lnTo>
                <a:lnTo>
                  <a:pt x="16754" y="17989"/>
                </a:lnTo>
                <a:lnTo>
                  <a:pt x="16754" y="10800"/>
                </a:lnTo>
                <a:lnTo>
                  <a:pt x="6135" y="10800"/>
                </a:lnTo>
                <a:lnTo>
                  <a:pt x="6135" y="17989"/>
                </a:lnTo>
                <a:lnTo>
                  <a:pt x="10522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50560" y="2278080"/>
            <a:ext cx="889308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алфавит включают и пробел (пропуск между словами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щность алфавита - полное число символов в алфавит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50021"/>
                </a:solidFill>
                <a:uFillTx/>
                <a:latin typeface="Tahoma"/>
              </a:rPr>
              <a:t>Например: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ощность алфавита русских букв и используемых символов равна 54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3 буквы + 10 цифр + 11 знаков препинания, скобки, пробе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AutoShape 4">
            <a:hlinkClick r:id="" action="ppaction://hlinkshowjump?jump=previousslide"/>
          </p:cNvPr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7493"/>
                </a:moveTo>
                <a:lnTo>
                  <a:pt x="13977" y="7493"/>
                </a:lnTo>
                <a:lnTo>
                  <a:pt x="13977" y="12828"/>
                </a:lnTo>
                <a:cubicBezTo>
                  <a:pt x="13977" y="13751"/>
                  <a:pt x="14778" y="14482"/>
                  <a:pt x="15813" y="14482"/>
                </a:cubicBezTo>
                <a:lnTo>
                  <a:pt x="17476" y="14482"/>
                </a:lnTo>
                <a:cubicBezTo>
                  <a:pt x="18511" y="14482"/>
                  <a:pt x="19312" y="13751"/>
                  <a:pt x="19312" y="12828"/>
                </a:cubicBezTo>
                <a:lnTo>
                  <a:pt x="19312" y="7493"/>
                </a:lnTo>
                <a:lnTo>
                  <a:pt x="17476" y="7493"/>
                </a:lnTo>
                <a:lnTo>
                  <a:pt x="20983" y="3985"/>
                </a:lnTo>
                <a:lnTo>
                  <a:pt x="24656" y="7493"/>
                </a:lnTo>
                <a:lnTo>
                  <a:pt x="22820" y="7493"/>
                </a:lnTo>
                <a:lnTo>
                  <a:pt x="22820" y="12828"/>
                </a:lnTo>
                <a:cubicBezTo>
                  <a:pt x="22820" y="15596"/>
                  <a:pt x="20244" y="18155"/>
                  <a:pt x="17476" y="18155"/>
                </a:cubicBezTo>
                <a:lnTo>
                  <a:pt x="15813" y="18155"/>
                </a:lnTo>
                <a:cubicBezTo>
                  <a:pt x="13046" y="18155"/>
                  <a:pt x="10469" y="15596"/>
                  <a:pt x="10469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AutoShape 5">
            <a:hlinkClick r:id="rId1" action="ppaction://hlinksldjump"/>
          </p:cNvPr>
          <p:cNvSpPr/>
          <p:nvPr/>
        </p:nvSpPr>
        <p:spPr>
          <a:xfrm>
            <a:off x="8028000" y="6524640"/>
            <a:ext cx="504720" cy="333360"/>
          </a:xfrm>
          <a:custGeom>
            <a:avLst/>
            <a:gdLst>
              <a:gd name="textAreaLeft" fmla="*/ 21600 w 504720"/>
              <a:gd name="textAreaRight" fmla="*/ 483120 w 504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691" h="21600">
                <a:moveTo>
                  <a:pt x="0" y="0"/>
                </a:moveTo>
                <a:lnTo>
                  <a:pt x="32691" y="0"/>
                </a:lnTo>
                <a:lnTo>
                  <a:pt x="32691" y="21600"/>
                </a:lnTo>
                <a:lnTo>
                  <a:pt x="0" y="21600"/>
                </a:lnTo>
                <a:close/>
              </a:path>
              <a:path fill="lightenLess" w="32691" h="21600">
                <a:moveTo>
                  <a:pt x="0" y="0"/>
                </a:moveTo>
                <a:lnTo>
                  <a:pt x="32691" y="0"/>
                </a:lnTo>
                <a:lnTo>
                  <a:pt x="31291" y="1400"/>
                </a:lnTo>
                <a:lnTo>
                  <a:pt x="1400" y="1400"/>
                </a:lnTo>
                <a:close/>
              </a:path>
              <a:path fill="darken" w="32691" h="21600">
                <a:moveTo>
                  <a:pt x="32691" y="0"/>
                </a:moveTo>
                <a:lnTo>
                  <a:pt x="32691" y="21600"/>
                </a:lnTo>
                <a:lnTo>
                  <a:pt x="31291" y="20200"/>
                </a:lnTo>
                <a:lnTo>
                  <a:pt x="31291" y="1400"/>
                </a:lnTo>
                <a:close/>
              </a:path>
              <a:path fill="darkenLess" w="32691" h="21600">
                <a:moveTo>
                  <a:pt x="32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91" y="20200"/>
                </a:lnTo>
                <a:close/>
              </a:path>
              <a:path fill="lighten" w="32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91" h="21600">
                <a:moveTo>
                  <a:pt x="16346" y="3837"/>
                </a:moveTo>
                <a:lnTo>
                  <a:pt x="18922" y="6448"/>
                </a:lnTo>
                <a:lnTo>
                  <a:pt x="18922" y="4707"/>
                </a:lnTo>
                <a:lnTo>
                  <a:pt x="20697" y="4707"/>
                </a:lnTo>
                <a:lnTo>
                  <a:pt x="20697" y="8224"/>
                </a:lnTo>
                <a:lnTo>
                  <a:pt x="23309" y="10800"/>
                </a:lnTo>
                <a:lnTo>
                  <a:pt x="21655" y="10800"/>
                </a:lnTo>
                <a:lnTo>
                  <a:pt x="21655" y="17989"/>
                </a:lnTo>
                <a:lnTo>
                  <a:pt x="11036" y="17989"/>
                </a:lnTo>
                <a:lnTo>
                  <a:pt x="11036" y="10800"/>
                </a:lnTo>
                <a:lnTo>
                  <a:pt x="9383" y="10800"/>
                </a:lnTo>
                <a:close/>
              </a:path>
              <a:path fill="darkenLess" w="32691" h="21600">
                <a:moveTo>
                  <a:pt x="18922" y="6448"/>
                </a:moveTo>
                <a:lnTo>
                  <a:pt x="18922" y="4707"/>
                </a:lnTo>
                <a:lnTo>
                  <a:pt x="20697" y="4707"/>
                </a:lnTo>
                <a:lnTo>
                  <a:pt x="20697" y="8224"/>
                </a:lnTo>
                <a:close/>
              </a:path>
              <a:path fill="darkenLess" w="32691" h="21600">
                <a:moveTo>
                  <a:pt x="15423" y="14299"/>
                </a:moveTo>
                <a:lnTo>
                  <a:pt x="17268" y="14299"/>
                </a:lnTo>
                <a:lnTo>
                  <a:pt x="17268" y="17989"/>
                </a:lnTo>
                <a:lnTo>
                  <a:pt x="21655" y="17989"/>
                </a:lnTo>
                <a:lnTo>
                  <a:pt x="21655" y="10800"/>
                </a:lnTo>
                <a:lnTo>
                  <a:pt x="11036" y="10800"/>
                </a:lnTo>
                <a:lnTo>
                  <a:pt x="11036" y="17989"/>
                </a:lnTo>
                <a:lnTo>
                  <a:pt x="15423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1214280" y="285840"/>
            <a:ext cx="742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Алфави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весь набор букв, знаков препинания, цифр, скобок и других символов, используемых в текст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9T13:54:09Z</dcterms:created>
  <dc:creator>1</dc:creator>
  <dc:description/>
  <dc:language>en-US</dc:language>
  <cp:lastModifiedBy>Admin</cp:lastModifiedBy>
  <dcterms:modified xsi:type="dcterms:W3CDTF">2012-03-07T11:17:06Z</dcterms:modified>
  <cp:revision>14</cp:revision>
  <dc:subject/>
  <dc:title>Слайд 1</dc:title>
</cp:coreProperties>
</file>