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162D-11CF-4B02-B511-1E80654B03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704D-F675-4044-9DAA-7D99E520855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5639-44E0-4777-AE92-B5FF3AAF898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9330-00BD-4C30-9E92-4CFEB2B3495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02C5-5151-4C3F-A718-A9FEC1ACF57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49EE-9E30-4B3C-904F-B2CAAAD2FB1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FC6A-76DA-4184-816B-5B8EF40F41D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C711-563C-4F6C-A7EA-C6208F2391C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A712-1AB3-4864-833D-6F31A173673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9334-7C05-444E-B1DD-BCECC016743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1B15-800E-404C-9296-E427AF76121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339E-8B18-41F4-897C-11A9AC4DB311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B1A1-B295-4090-90AF-2E6BDB77E87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7EAC-DE8C-41FB-BC6B-E83AFFF194E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D2C2-0B79-46DE-B44B-EA93AB5F3B8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EEC3-6A5D-4B2F-8E40-D52C2DDB713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D7C6-9820-4E27-A8BD-EB808F2368B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574-463A-4B4F-810F-C0C6923A15A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D70-FD09-456F-A46B-68C18743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0B1-C933-457E-98BB-35B520F3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28FA-1718-49E8-8F9E-6B24F5BC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356-518A-4292-BFFD-31582DA4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6A0A-CC08-4E33-BFD9-EB5FA980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8B60-235B-4607-BC20-7F478BF6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1A72-64E3-450E-8B48-74A00A67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78EC0-DF6E-4E8C-ACF6-5998019E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E417-BB26-4181-A820-2AF5D62C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B629-BB1E-47F7-B2AC-42E58267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84E4-0445-41F7-A784-33F2FD25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A3A-CCE4-472F-B1AD-BE95F946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9F19-3770-4C52-B1B9-B080DD5E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3AEE-C0B0-4C05-BE75-FBBE1CEE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5D33-FB70-4A4E-9BE6-9F040375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E41D-741D-46B6-A587-D1EE1850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2A94-38E8-478E-8547-D6FD624F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842-FE8C-4598-8189-E16E5069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AB5-A1EC-42E7-ACBB-4295ACCA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F41-A48D-4235-8E65-51C93D8F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556-DB54-432D-9F06-D00D168F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CA1-F962-4503-ABA1-CD041209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EE63-F9BA-429F-A9E9-8F9EAC9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54C-3C8E-46E5-9213-BA707133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2083-DD31-495F-B64E-3D93B674DCF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9601-25EC-4104-B1D2-F10B70AB8F9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70920" y="764280"/>
            <a:ext cx="7341840" cy="103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утешествие к Инфознай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857480" y="1499760"/>
            <a:ext cx="3429000" cy="371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Подготовила: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Таланцева Валерия Вячеславовна,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учитель начальных классов первой категор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МОУ СОШ № 38 г. Чебоксары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стаж работы 22 год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85840" y="528624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атериалы взяты с сайта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ww.infoznaika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1619280" y="4797360"/>
            <a:ext cx="6624720" cy="1532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900000" y="263448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9. Кого из приведенных ниже живых существ или материальных объектов нельзя назвать Исполнителем?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1187280" y="3932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0. В множество «Города России» был неправильно записан один объект. Найди ег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95280" y="5300640"/>
            <a:ext cx="87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Новосибирск;  2) Пермь;  3) Чувашия;  4) Петрозаводс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4859280" y="3789360"/>
            <a:ext cx="3851280" cy="13986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6"/>
          <p:cNvSpPr/>
          <p:nvPr/>
        </p:nvSpPr>
        <p:spPr>
          <a:xfrm>
            <a:off x="-73440" y="2347560"/>
            <a:ext cx="55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1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лово, зашифрованное в ребус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означает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3098160"/>
            <a:ext cx="493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место кратковременного хранения информации в компьютер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редство для передачи информац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редство для печати информации с компьютера на бумагу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AutoNum type="arabicParenR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средство ввода информ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179280" y="2598840"/>
            <a:ext cx="516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2. В загадке «Кто его раздевает, тот слезы проливает» существенным признаком, по которому можно угадать, что речь идет о луке, является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слезы;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2) иметь много одежек;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выделять запах, раздражающий глаз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) быть маленьким, круглым и желты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3"/>
          <a:stretch/>
        </p:blipFill>
        <p:spPr>
          <a:xfrm>
            <a:off x="6696000" y="4149720"/>
            <a:ext cx="1455840" cy="16556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6084720" y="3860640"/>
            <a:ext cx="2592720" cy="2343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465120" y="2228760"/>
            <a:ext cx="4827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3. Пять принцев дружили между собой, но жили в пяти разных городах. Они решили проложить дороги так, чтобы из любого города можно было добраться в любой другой город (возможно, проезжая через другой). Сколько минимально дорог надо им проложит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6;   2)  5;   3) 4;   4) 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900000" y="4842000"/>
            <a:ext cx="7274160" cy="2016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0" y="2277000"/>
            <a:ext cx="5484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4. В сказке А. С. Пушкина «Сказка о попе и о работнике его Балде» поп выбирал работника по следующим признака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«Нужен мне работник: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овар, конюх и плотник.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 где найти мне такого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лужителя не слишком дорогого?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Какое из следующих пересечений множеств верно отражает требования попа?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826920" y="2450880"/>
            <a:ext cx="363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5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У Пети два друга: Ваня и Сережа, Ваня еще дружит с Колей, Сережа тоже дружит с Колей. Какой граф отображает дружеские отношения между мальчиками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3"/>
          <a:stretch/>
        </p:blipFill>
        <p:spPr>
          <a:xfrm>
            <a:off x="3780000" y="5373720"/>
            <a:ext cx="4932360" cy="12175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1835280" y="4005360"/>
            <a:ext cx="59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Добро пожаловать к Инфознайке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4140360" y="333360"/>
            <a:ext cx="200016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7"/>
          <p:cNvGraphicFramePr/>
          <p:nvPr/>
        </p:nvGraphicFramePr>
        <p:xfrm>
          <a:off x="4643280" y="4653000"/>
          <a:ext cx="3286440" cy="15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3280" y="4653000"/>
                    <a:ext cx="3286440" cy="15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8"/>
          <p:cNvSpPr/>
          <p:nvPr/>
        </p:nvSpPr>
        <p:spPr>
          <a:xfrm>
            <a:off x="4211640" y="2418480"/>
            <a:ext cx="439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На столе есть места для трех предметов, установи правильное соответствие между местами и самими предмета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3680" y="234792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4365720"/>
          <a:ext cx="3216240" cy="1798560"/>
        </p:xfrm>
        <a:graphic>
          <a:graphicData uri="http://schemas.openxmlformats.org/drawingml/2006/table">
            <a:tbl>
              <a:tblPr/>
              <a:tblGrid>
                <a:gridCol w="2951280"/>
                <a:gridCol w="26496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1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3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1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3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3366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-С;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3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A; 2-B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Rectangle 22"/>
          <p:cNvSpPr/>
          <p:nvPr/>
        </p:nvSpPr>
        <p:spPr>
          <a:xfrm>
            <a:off x="193680" y="2347920"/>
            <a:ext cx="464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44" descr=""/>
          <p:cNvPicPr/>
          <p:nvPr/>
        </p:nvPicPr>
        <p:blipFill>
          <a:blip r:embed="rId4"/>
          <a:stretch/>
        </p:blipFill>
        <p:spPr>
          <a:xfrm>
            <a:off x="0" y="0"/>
            <a:ext cx="4076640" cy="3562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8"/>
          <p:cNvSpPr/>
          <p:nvPr/>
        </p:nvSpPr>
        <p:spPr>
          <a:xfrm>
            <a:off x="6948360" y="105264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х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19200" y="4365720"/>
            <a:ext cx="6696000" cy="8506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826920" y="2490120"/>
            <a:ext cx="364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2. Рассмотри нарисованные компьютеры и найди два одинаковых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067200" y="4294080"/>
          <a:ext cx="6076800" cy="1494000"/>
        </p:xfrm>
        <a:graphic>
          <a:graphicData uri="http://schemas.openxmlformats.org/drawingml/2006/table">
            <a:tbl>
              <a:tblPr/>
              <a:tblGrid>
                <a:gridCol w="4640040"/>
                <a:gridCol w="1436760"/>
              </a:tblGrid>
              <a:tr h="14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) 2 и 4;     2) 1 и 5;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3) 1 и 6;     4) 5 и 6.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7" name="Picture 13" descr=""/>
          <p:cNvPicPr/>
          <p:nvPr/>
        </p:nvPicPr>
        <p:blipFill>
          <a:blip r:embed="rId2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"/>
          <p:cNvPicPr/>
          <p:nvPr/>
        </p:nvPicPr>
        <p:blipFill>
          <a:blip r:embed="rId3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5"/>
          <p:cNvSpPr/>
          <p:nvPr/>
        </p:nvSpPr>
        <p:spPr>
          <a:xfrm>
            <a:off x="1117440" y="9810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х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1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"/>
          <p:cNvPicPr/>
          <p:nvPr/>
        </p:nvPicPr>
        <p:blipFill>
          <a:blip r:embed="rId3"/>
          <a:stretch/>
        </p:blipFill>
        <p:spPr>
          <a:xfrm>
            <a:off x="0" y="2781360"/>
            <a:ext cx="5041800" cy="3254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4"/>
          <p:cNvSpPr/>
          <p:nvPr/>
        </p:nvSpPr>
        <p:spPr>
          <a:xfrm>
            <a:off x="5076720" y="3754080"/>
            <a:ext cx="4067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. Вини-Пух, прогуливаясь через лес, зашел к Пятачку. Затем они вместе пошли к Кролику, и потом втроем отправились к озеру. Какой граф отображает маршрут друзей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324000" y="2517840"/>
            <a:ext cx="44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По алгоритму из стрелок воспроизведи рисунок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Что у тебя получилось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2627280" y="3726000"/>
            <a:ext cx="5761080" cy="2832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7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"/>
          <p:cNvPicPr/>
          <p:nvPr/>
        </p:nvPicPr>
        <p:blipFill>
          <a:blip r:embed="rId3"/>
          <a:stretch/>
        </p:blipFill>
        <p:spPr>
          <a:xfrm>
            <a:off x="5580000" y="3933720"/>
            <a:ext cx="3030480" cy="2065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179280" y="2810880"/>
            <a:ext cx="48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. В сказке В. Ф. Одоевского «Городок в табакерке» работой музыкальной шкатулки управляет Пружин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акое устройство управляет работой компьютер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амять;   2)  процессор;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монитор;   4) клавиату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0" y="2201040"/>
            <a:ext cx="4943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6. У Буратино были друзья: папа Карло, Пьеро, Артемон, Мальвина, и враги: Карабас Барабас, Дуремар, лиса Алиса и кот Базилио. Выбери соотношение множеств, которое верно описывает отношения между друзьями и врагами Буратино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3"/>
          <a:stretch/>
        </p:blipFill>
        <p:spPr>
          <a:xfrm>
            <a:off x="1187280" y="5516640"/>
            <a:ext cx="7417080" cy="1154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4"/>
          <a:stretch/>
        </p:blipFill>
        <p:spPr>
          <a:xfrm>
            <a:off x="5796000" y="3573360"/>
            <a:ext cx="1165320" cy="20098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900000" y="2234880"/>
            <a:ext cx="390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7. Вычислительная машина считает по алгоритму, изображенному в виде блок-схемы. Если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=17, чему будет равен результат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) 59;    2)  43;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) 25;   4)  9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3"/>
          <a:stretch/>
        </p:blipFill>
        <p:spPr>
          <a:xfrm>
            <a:off x="5219640" y="3573360"/>
            <a:ext cx="3241800" cy="31435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5067360" y="0"/>
            <a:ext cx="4076640" cy="3562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3059280" y="404640"/>
            <a:ext cx="2000160" cy="15336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5"/>
          <p:cNvSpPr/>
          <p:nvPr/>
        </p:nvSpPr>
        <p:spPr>
          <a:xfrm>
            <a:off x="1116000" y="2124000"/>
            <a:ext cx="349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О каком из следующих материальных или информационных объектов нельзя сказать, что это модель Солнца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4643280" cy="1843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1117800" y="98100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ход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2:18:15Z</dcterms:created>
  <dc:creator>Миша</dc:creator>
  <dc:description/>
  <dc:language>en-US</dc:language>
  <cp:lastModifiedBy>Admin</cp:lastModifiedBy>
  <dcterms:modified xsi:type="dcterms:W3CDTF">2012-03-26T06:58:27Z</dcterms:modified>
  <cp:revision>19</cp:revision>
  <dc:subject/>
  <dc:title>Путешествие к Инфознайке</dc:title>
</cp:coreProperties>
</file>