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472E-1B0B-44F8-81C8-19FEF8FC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225-490D-4178-8DF4-70109EF3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AF7-159D-4118-BAD0-2E90B7182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3FB9-975D-4A08-B13B-10C24F0E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E99-2421-43DE-9BD3-06D3D6CB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DD6-7DC3-40DB-9B00-97E1346F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137-BB05-4230-AB5D-30105605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A47-C667-4EFC-91FE-BCE92C5C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8A5-6E08-4CAD-B821-E67B4480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D28D-BDA7-4CEA-9442-71B812E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E0E-99E9-441E-ADD3-C337BA0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C90-8153-4D88-BED0-430227FA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CF7F-D14F-4777-BC6F-B6F3657595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books.org/w/index.php?title=&#1044;&#1086;&#1089;&#1090;&#1086;&#1074;&#1077;&#1088;&#1085;&#1086;&#1089;&#1090;&#1100;&amp;action=edit&amp;redlink=1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формация. Краткая история информатики. Информатика, как наука. Информационные процессы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новные 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Графическая или изобразительна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— первый вид, для которого был реализован способ хранения информации об окружающем мире в виде наскальных рисунков, а позднее в виде картин, фотографий, схем, чертежей на бумаге, холсте, мраморе и др. материалах, изображающих картины реального мир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звукова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— мир вокруг нас полон звуков и задача их хранения и тиражирования была решена с изобретением звукозаписывающих устройств в 1877 г; ее разновидностью является музыкальная информация — для этого вида был изобретен способ кодирования с использованием специальных символов, что делает возможным хранение ее аналогично графической информаци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текстова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— способ кодирования речи человека специальными символами — буквами, причем разные народы имеют разные языки и используют различные наборы букв для отображения речи; особенно большое значение этот способ приобрел после изобретения бумаги и книгопечатани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числова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— количественная мера объектов и их свойств в окружающем мире; особенно большое значение приобрела с развитием торговли, экономики и денежного обмена; аналогично текстовой информации для ее отображения используется метод кодирования специальными символами — цифрами, причем системы кодирования (счисления) могут быть разным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видеоинформац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— способ сохранения «живых» картин окружающего мира, появившийся с изобретением кино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войства информаци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 и всякий объект, информация обладает свойствами. Характерной отличительной особенностью информации от других объектов природы и общества, является дуализм: на свойства информации влияют как свойства исходных данных, составляющих ее содержательную часть, так и свойства методов, фиксирующих эту информацию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 точки зрения информатики наиболее важными представляются следующие общие качественные свойства: объективность, достоверность, полнота, точность, актуальность, полезность, ценность, своевременность, понятность, доступность, краткость и п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Объективность 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ъективный – существующий вне и независимо от человеческого сознания. Информация – это отражение внешнего объективного мира. Информация объективна, если она не зависит от методов ее фиксации, чьего-либо мнения, суждения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мер. Сообщение «На улице тепло» несет субъективную информацию, а сообщение «На улице 22°С» – объективную, но с точностью, зависящей от погрешности средства измерения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ъективную информацию можно получить с помощью исправных датчиков, измерительных приборов. Отражаясь в сознании человека, информация может искажаться (в большей или меньшей степени) в зависимости от мнения, суждения, опыта, знаний конкретного субъекта, и, таким образом, перестать быть объективн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Достоверность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 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формация достоверна, если она отражает истинное положение дел. Объективная информация всегда достоверна, но достоверная информация может быть как объективной, так и субъективной. Достоверная информация помогает принять нам правильное решение. Недостоверной информация может быть по следующим причинам:преднамеренное искажение (дезинформация) или непреднамеренное искажение субъективного свойств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скажение в результате воздействия помех («испорченный телефон») и недостаточно точных средств ее фиксац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лнота 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ю можно назвать полной, если ее достаточно для понимания и принятия решений. Неполная информация может привести к ошибочному выводу или реш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Точность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ся степенью ее близости к реальному состоянию объекта, процесса, явления и т. 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ктуальность информац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жность для настоящего времени, злободневность, насущность. Только вовремя полученная информация может быть полез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олезность (ценность)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езность может быть оценена применительно к нуждам конкретных ее потребителей и оценивается по тем задачам, которые можно решить с ее помощь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амая ценная информация – полезная. При этом следует учитывать, что и необъективная, недостоверная информация (например, художественная литература), имеет большую значимость для человек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Понятие и структура информатики. Информатика – это область человеческой деятельности, связанная с процессами преобразования информации с помощью компьютера и их взаимодействие со средой применения."/>
          <p:cNvPicPr/>
          <p:nvPr/>
        </p:nvPicPr>
        <p:blipFill>
          <a:blip r:embed="rId1"/>
          <a:stretch/>
        </p:blipFill>
        <p:spPr>
          <a:xfrm>
            <a:off x="108000" y="260280"/>
            <a:ext cx="877248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Этапы развития информационного общества. I этап – изобретение письменности (IV тыс. до н.э.) Появление средств и методов накопления информации."/>
          <p:cNvPicPr/>
          <p:nvPr/>
        </p:nvPicPr>
        <p:blipFill>
          <a:blip r:embed="rId1"/>
          <a:stretch/>
        </p:blipFill>
        <p:spPr>
          <a:xfrm>
            <a:off x="115920" y="201600"/>
            <a:ext cx="878508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Этапы развития информационного общества. II этап – изобретение книгопечатания (середина XVI века). Появление качественно нового способа хранения информации. Иоганнс Гуттенберг."/>
          <p:cNvPicPr/>
          <p:nvPr/>
        </p:nvPicPr>
        <p:blipFill>
          <a:blip r:embed="rId1"/>
          <a:stretch/>
        </p:blipFill>
        <p:spPr>
          <a:xfrm>
            <a:off x="250920" y="115920"/>
            <a:ext cx="864072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II этап – изобретение электричества (конец XIX века) Появление средств информационной коммуникации. Этапы развития информационного общества. Настоящей революцией в истории распространения информации стало изобретение радио. Radio – по латыни означает испускающий лучи. 25 апреля 1895 года А. С. Попов (1859–1906), применив антенну, демонстрировал свой «грозоотметчик» – первый в мире радиоприемник. . С. Попов."/>
          <p:cNvPicPr/>
          <p:nvPr/>
        </p:nvPicPr>
        <p:blipFill>
          <a:blip r:embed="rId1"/>
          <a:stretch/>
        </p:blipFill>
        <p:spPr>
          <a:xfrm>
            <a:off x="25560" y="189000"/>
            <a:ext cx="886428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Этапы развития информационного общества. IV этап – изобретение микропроцессорной технологии и ПК (70-е г.г. XX века). Появление персонального компьютера, позволяющего решать проблему хранения и передачи информации на качественно новом уровне. Пк ibm pc. Первый ПК Apple II."/>
          <p:cNvPicPr/>
          <p:nvPr/>
        </p:nvPicPr>
        <p:blipFill>
          <a:blip r:embed="rId1"/>
          <a:stretch/>
        </p:blipFill>
        <p:spPr>
          <a:xfrm>
            <a:off x="108000" y="68400"/>
            <a:ext cx="8928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нформация (от лат. informatio — осведомление, разъяснение, изложение) — в широком смысле абстрактное понятие, имеющее множество значений, в зависимости от контекста. В узком смысле этого слова — сведения (сообщения, данные) независимо от формы их представления. В настоящее время не существует единого определения термина информация. С точки зрения различных областей знания, данное понятие описывается своим специфическим набором признаков. Информация — совокупность данных, зафиксированных на материальном носителе, сохранённых и распространённых во времени и пространств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пределения слова «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»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едения об окружающем мире и протекающих в нем процессах, воспринимаемые человеком или специальным устройств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бщения, осведомляющие о положении дел, о состоянии чего-нибудь. (Научно-техническая и газетная информации, средства массовой информации — печать, радио, телевидение, кин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информатике наиболее часто используется следующее определение этого термина: 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нформация — это осознанные сведения об окружающем мире, которые являются объектом хранения, преобразования, передачи и использования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Сведения — это знания, выраженные в сигналах, сообщениях, известиях, уведомлениях и т. д. Каждого человека в мире окружает море информации различных вид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0:45:17Z</dcterms:created>
  <dc:creator>user</dc:creator>
  <dc:description/>
  <dc:language>en-US</dc:language>
  <cp:lastModifiedBy>user</cp:lastModifiedBy>
  <dcterms:modified xsi:type="dcterms:W3CDTF">2012-02-29T09:41:30Z</dcterms:modified>
  <cp:revision>4</cp:revision>
  <dc:subject/>
  <dc:title>Виды информации и её свойства</dc:title>
</cp:coreProperties>
</file>